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813D7-F755-4081-833E-D41BC46FC2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s placed on the fact that the farther the number is to the left of the number line the smaller it’s valu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want to include fraction/decim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o identify absolute value as the distance from zero.  Discuss how since it is a distance away from something, it can never be a negative number.  You might want to do a class activity having student take 5 steps away from a central point in any direction, then discuss that regardless of the direction they went, they are still 5 steps aw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cussion should lead to the realization that it only works if you have one positive and one negative number initially because you would add the number of places to the right of zero for the positive number to the number of places to the left of zero for the negative number thus finding the total number of places between the number.  Give some examples of both positive and/or both negative to have them see what happens in these cases.  Point out that adding their absolute values will inflate the distance between them.  When both are the same sign, you simply subtract the smaller absolute value from the larger to find the difference.  Have them try several pairs of numbers to prove this tru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this problem is an example of finding differences between positive and negative numbers that applies to the real world.  Allow students to generate additional real world situation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A472E-F9F3-4C6B-AF81-C1308A986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0ED20-693F-4166-B535-752F758AA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908A6-0D13-468C-B887-2F1B5199F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F13212-2327-40F4-8014-BDC6F2558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56A88-D923-497A-AA7C-54CDAB414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51B55-9D37-4890-96E7-9D73EEAAE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D1C4E-DE0A-4F29-AFF0-AA797BA79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6C640-B59A-4430-A87B-417151975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F6B58-3DFC-4493-A521-5301DFF61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0C617-EB71-4C16-8FB4-71E64440D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7539E-3B86-4F3B-B01D-3C1B29138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31265-CCAD-4736-95FC-BFF6BD9C49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1D0A4-F816-4C3D-B362-668836E25D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m - up</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 ___ 32</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 ___ -3</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 ___ -9</a:t>
            </a:r>
            <a:endParaRPr b="0" lang="en-US" sz="3200" spc="-1" strike="noStrike">
              <a:solidFill>
                <a:srgbClr val="000000"/>
              </a:solidFill>
              <a:latin typeface="Arial"/>
            </a:endParaRPr>
          </a:p>
        </p:txBody>
      </p:sp>
      <p:sp>
        <p:nvSpPr>
          <p:cNvPr id="50" name=""/>
          <p:cNvSpPr/>
          <p:nvPr/>
        </p:nvSpPr>
        <p:spPr>
          <a:xfrm>
            <a:off x="1919160" y="2295360"/>
            <a:ext cx="250920" cy="241560"/>
          </a:xfrm>
          <a:custGeom>
            <a:avLst/>
            <a:gdLst/>
            <a:ahLst/>
            <a:rect l="l" t="t" r="r" b="b"/>
            <a:pathLst>
              <a:path w="696" h="671">
                <a:moveTo>
                  <a:pt x="6028" y="6375"/>
                </a:moveTo>
                <a:cubicBezTo>
                  <a:pt x="5844" y="6477"/>
                  <a:pt x="5743" y="6616"/>
                  <a:pt x="5581" y="6747"/>
                </a:cubicBezTo>
                <a:cubicBezTo>
                  <a:pt x="5447" y="6836"/>
                  <a:pt x="5412" y="6858"/>
                  <a:pt x="5333" y="6921"/>
                </a:cubicBezTo>
                <a:cubicBezTo>
                  <a:pt x="5452" y="6921"/>
                  <a:pt x="5590" y="6944"/>
                  <a:pt x="5705" y="6970"/>
                </a:cubicBezTo>
                <a:cubicBezTo>
                  <a:pt x="5801" y="6992"/>
                  <a:pt x="5939" y="7024"/>
                  <a:pt x="6003" y="704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847880" y="3490920"/>
            <a:ext cx="250920" cy="287280"/>
          </a:xfrm>
          <a:custGeom>
            <a:avLst/>
            <a:gdLst/>
            <a:ahLst/>
            <a:rect l="l" t="t" r="r" b="b"/>
            <a:pathLst>
              <a:path w="695" h="794">
                <a:moveTo>
                  <a:pt x="5135" y="9699"/>
                </a:moveTo>
                <a:cubicBezTo>
                  <a:pt x="5295" y="9725"/>
                  <a:pt x="5409" y="9838"/>
                  <a:pt x="5556" y="9897"/>
                </a:cubicBezTo>
                <a:cubicBezTo>
                  <a:pt x="5705" y="9940"/>
                  <a:pt x="5737" y="9950"/>
                  <a:pt x="5829" y="9971"/>
                </a:cubicBezTo>
                <a:cubicBezTo>
                  <a:pt x="5766" y="10129"/>
                  <a:pt x="5556" y="10235"/>
                  <a:pt x="5432" y="10344"/>
                </a:cubicBezTo>
                <a:cubicBezTo>
                  <a:pt x="5345" y="10431"/>
                  <a:pt x="5326" y="10454"/>
                  <a:pt x="5259" y="1049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017800" y="4633920"/>
            <a:ext cx="312480" cy="314280"/>
          </a:xfrm>
          <a:custGeom>
            <a:avLst/>
            <a:gdLst/>
            <a:ahLst/>
            <a:rect l="l" t="t" r="r" b="b"/>
            <a:pathLst>
              <a:path w="869" h="869">
                <a:moveTo>
                  <a:pt x="6226" y="12874"/>
                </a:moveTo>
                <a:cubicBezTo>
                  <a:pt x="6075" y="13064"/>
                  <a:pt x="5889" y="13235"/>
                  <a:pt x="5705" y="13395"/>
                </a:cubicBezTo>
                <a:cubicBezTo>
                  <a:pt x="5632" y="13449"/>
                  <a:pt x="5599" y="13441"/>
                  <a:pt x="5606" y="13494"/>
                </a:cubicBezTo>
                <a:cubicBezTo>
                  <a:pt x="5799" y="13522"/>
                  <a:pt x="6026" y="13605"/>
                  <a:pt x="6226" y="13643"/>
                </a:cubicBezTo>
                <a:cubicBezTo>
                  <a:pt x="6390" y="13674"/>
                  <a:pt x="6404" y="13643"/>
                  <a:pt x="6474" y="1374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8380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9 – Integers &amp; Reflections</a:t>
            </a:r>
            <a:endParaRPr b="0" lang="en-US" sz="4400" spc="-1" strike="noStrike">
              <a:solidFill>
                <a:srgbClr val="000000"/>
              </a:solidFill>
              <a:latin typeface="Arial"/>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  Students will compare integers and absolute values on a number 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compare integers and absolute values on a number line and find distance between points.</a:t>
            </a:r>
            <a:endParaRPr b="0" lang="en-US" sz="2000" spc="-1" strike="noStrike">
              <a:solidFill>
                <a:srgbClr val="000000"/>
              </a:solidFill>
              <a:latin typeface="Arial"/>
            </a:endParaRPr>
          </a:p>
        </p:txBody>
      </p:sp>
      <p:sp>
        <p:nvSpPr>
          <p:cNvPr id="56" name="PlaceHolder 2"/>
          <p:cNvSpPr>
            <a:spLocks noGrp="1"/>
          </p:cNvSpPr>
          <p:nvPr>
            <p:ph/>
          </p:nvPr>
        </p:nvSpPr>
        <p:spPr>
          <a:xfrm>
            <a:off x="380880" y="11430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cabulary Review:</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Numbers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ve Number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nal Number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olute Valu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
          <p:cNvSpPr/>
          <p:nvPr/>
        </p:nvSpPr>
        <p:spPr>
          <a:xfrm>
            <a:off x="4098960" y="2419200"/>
            <a:ext cx="482400" cy="169920"/>
          </a:xfrm>
          <a:custGeom>
            <a:avLst/>
            <a:gdLst/>
            <a:ahLst/>
            <a:rect l="l" t="t" r="r" b="b"/>
            <a:pathLst>
              <a:path w="1341" h="472">
                <a:moveTo>
                  <a:pt x="11658" y="6846"/>
                </a:moveTo>
                <a:cubicBezTo>
                  <a:pt x="11744" y="6817"/>
                  <a:pt x="11615" y="6762"/>
                  <a:pt x="11584" y="6747"/>
                </a:cubicBezTo>
                <a:cubicBezTo>
                  <a:pt x="11450" y="6680"/>
                  <a:pt x="11399" y="6850"/>
                  <a:pt x="11385" y="6945"/>
                </a:cubicBezTo>
                <a:cubicBezTo>
                  <a:pt x="11379" y="6985"/>
                  <a:pt x="11407" y="6970"/>
                  <a:pt x="11435" y="6970"/>
                </a:cubicBezTo>
              </a:path>
              <a:path w="1341" h="472">
                <a:moveTo>
                  <a:pt x="11683" y="6846"/>
                </a:moveTo>
                <a:cubicBezTo>
                  <a:pt x="11599" y="6846"/>
                  <a:pt x="11524" y="6858"/>
                  <a:pt x="11460" y="6921"/>
                </a:cubicBezTo>
                <a:cubicBezTo>
                  <a:pt x="11356" y="7025"/>
                  <a:pt x="11349" y="7182"/>
                  <a:pt x="11534" y="7193"/>
                </a:cubicBezTo>
                <a:cubicBezTo>
                  <a:pt x="11642" y="7200"/>
                  <a:pt x="11770" y="7054"/>
                  <a:pt x="11733" y="6945"/>
                </a:cubicBezTo>
                <a:cubicBezTo>
                  <a:pt x="11725" y="6937"/>
                  <a:pt x="11716" y="6929"/>
                  <a:pt x="11708" y="6921"/>
                </a:cubicBezTo>
                <a:cubicBezTo>
                  <a:pt x="11675" y="6970"/>
                  <a:pt x="11741" y="7113"/>
                  <a:pt x="11857" y="7094"/>
                </a:cubicBezTo>
                <a:cubicBezTo>
                  <a:pt x="11935" y="7081"/>
                  <a:pt x="11959" y="6894"/>
                  <a:pt x="11931" y="6921"/>
                </a:cubicBezTo>
                <a:cubicBezTo>
                  <a:pt x="11931" y="6929"/>
                  <a:pt x="11931" y="6937"/>
                  <a:pt x="11931" y="6945"/>
                </a:cubicBezTo>
                <a:cubicBezTo>
                  <a:pt x="11964" y="6986"/>
                  <a:pt x="12012" y="7033"/>
                  <a:pt x="12030" y="7069"/>
                </a:cubicBezTo>
                <a:cubicBezTo>
                  <a:pt x="12097" y="7048"/>
                  <a:pt x="12003" y="6931"/>
                  <a:pt x="12005" y="6871"/>
                </a:cubicBezTo>
                <a:cubicBezTo>
                  <a:pt x="12010" y="6721"/>
                  <a:pt x="12210" y="6768"/>
                  <a:pt x="12303" y="6772"/>
                </a:cubicBezTo>
                <a:cubicBezTo>
                  <a:pt x="12311" y="6772"/>
                  <a:pt x="12320" y="6772"/>
                  <a:pt x="12328" y="6772"/>
                </a:cubicBezTo>
              </a:path>
              <a:path w="1341" h="472">
                <a:moveTo>
                  <a:pt x="12427" y="6896"/>
                </a:moveTo>
                <a:cubicBezTo>
                  <a:pt x="12540" y="6890"/>
                  <a:pt x="12657" y="6924"/>
                  <a:pt x="12675" y="6796"/>
                </a:cubicBezTo>
                <a:cubicBezTo>
                  <a:pt x="12594" y="6776"/>
                  <a:pt x="12577" y="6690"/>
                  <a:pt x="12502" y="6821"/>
                </a:cubicBezTo>
                <a:cubicBezTo>
                  <a:pt x="12430" y="6948"/>
                  <a:pt x="12478" y="7114"/>
                  <a:pt x="12650" y="7069"/>
                </a:cubicBezTo>
                <a:cubicBezTo>
                  <a:pt x="12675" y="7053"/>
                  <a:pt x="12700" y="7036"/>
                  <a:pt x="12725" y="702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4840200" y="2320920"/>
            <a:ext cx="204840" cy="216000"/>
          </a:xfrm>
          <a:custGeom>
            <a:avLst/>
            <a:gdLst/>
            <a:ahLst/>
            <a:rect l="l" t="t" r="r" b="b"/>
            <a:pathLst>
              <a:path w="572" h="597">
                <a:moveTo>
                  <a:pt x="13444" y="6449"/>
                </a:moveTo>
                <a:cubicBezTo>
                  <a:pt x="13642" y="6536"/>
                  <a:pt x="13835" y="6524"/>
                  <a:pt x="14015" y="6573"/>
                </a:cubicBezTo>
                <a:cubicBezTo>
                  <a:pt x="14007" y="6581"/>
                  <a:pt x="13998" y="6590"/>
                  <a:pt x="13990" y="6598"/>
                </a:cubicBezTo>
                <a:cubicBezTo>
                  <a:pt x="13907" y="6674"/>
                  <a:pt x="13557" y="6905"/>
                  <a:pt x="13618" y="7045"/>
                </a:cubicBezTo>
                <a:cubicBezTo>
                  <a:pt x="13626" y="7045"/>
                  <a:pt x="13635" y="7045"/>
                  <a:pt x="13643" y="704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268960" y="2259000"/>
            <a:ext cx="196920" cy="241200"/>
          </a:xfrm>
          <a:custGeom>
            <a:avLst/>
            <a:gdLst/>
            <a:ahLst/>
            <a:rect l="l" t="t" r="r" b="b"/>
            <a:pathLst>
              <a:path w="546" h="670">
                <a:moveTo>
                  <a:pt x="14957" y="6276"/>
                </a:moveTo>
                <a:cubicBezTo>
                  <a:pt x="14785" y="6349"/>
                  <a:pt x="14678" y="6512"/>
                  <a:pt x="14635" y="6697"/>
                </a:cubicBezTo>
                <a:cubicBezTo>
                  <a:pt x="14635" y="6747"/>
                  <a:pt x="14635" y="6796"/>
                  <a:pt x="14635" y="6846"/>
                </a:cubicBezTo>
                <a:cubicBezTo>
                  <a:pt x="14842" y="6992"/>
                  <a:pt x="15101" y="6974"/>
                  <a:pt x="15180" y="6648"/>
                </a:cubicBezTo>
                <a:cubicBezTo>
                  <a:pt x="15237" y="6414"/>
                  <a:pt x="15005" y="6350"/>
                  <a:pt x="14858" y="635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4394160" y="3205080"/>
            <a:ext cx="615960" cy="260280"/>
          </a:xfrm>
          <a:custGeom>
            <a:avLst/>
            <a:gdLst/>
            <a:ahLst/>
            <a:rect l="l" t="t" r="r" b="b"/>
            <a:pathLst>
              <a:path w="1712" h="720">
                <a:moveTo>
                  <a:pt x="12650" y="9004"/>
                </a:moveTo>
                <a:cubicBezTo>
                  <a:pt x="12628" y="9188"/>
                  <a:pt x="12473" y="9341"/>
                  <a:pt x="12353" y="9475"/>
                </a:cubicBezTo>
                <a:cubicBezTo>
                  <a:pt x="12262" y="9566"/>
                  <a:pt x="12254" y="9574"/>
                  <a:pt x="12204" y="9624"/>
                </a:cubicBezTo>
                <a:cubicBezTo>
                  <a:pt x="12417" y="9624"/>
                  <a:pt x="12843" y="9693"/>
                  <a:pt x="12998" y="9599"/>
                </a:cubicBezTo>
              </a:path>
              <a:path w="1712" h="720">
                <a:moveTo>
                  <a:pt x="13643" y="8954"/>
                </a:moveTo>
                <a:cubicBezTo>
                  <a:pt x="13613" y="8869"/>
                  <a:pt x="13495" y="8989"/>
                  <a:pt x="13469" y="9029"/>
                </a:cubicBezTo>
                <a:cubicBezTo>
                  <a:pt x="13354" y="9205"/>
                  <a:pt x="13228" y="9613"/>
                  <a:pt x="13593" y="9575"/>
                </a:cubicBezTo>
                <a:cubicBezTo>
                  <a:pt x="13867" y="9547"/>
                  <a:pt x="14041" y="9225"/>
                  <a:pt x="13841" y="9004"/>
                </a:cubicBezTo>
                <a:cubicBezTo>
                  <a:pt x="13741" y="8894"/>
                  <a:pt x="13635" y="8909"/>
                  <a:pt x="13543" y="895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813280" y="4000680"/>
            <a:ext cx="1938600" cy="312480"/>
          </a:xfrm>
          <a:custGeom>
            <a:avLst/>
            <a:gdLst/>
            <a:ahLst/>
            <a:rect l="l" t="t" r="r" b="b"/>
            <a:pathLst>
              <a:path w="5383" h="870">
                <a:moveTo>
                  <a:pt x="16197" y="11757"/>
                </a:moveTo>
                <a:cubicBezTo>
                  <a:pt x="16227" y="11839"/>
                  <a:pt x="16210" y="11894"/>
                  <a:pt x="16272" y="11956"/>
                </a:cubicBezTo>
              </a:path>
              <a:path w="5383" h="870">
                <a:moveTo>
                  <a:pt x="16148" y="11509"/>
                </a:moveTo>
                <a:cubicBezTo>
                  <a:pt x="16148" y="11501"/>
                  <a:pt x="16148" y="11493"/>
                  <a:pt x="16148" y="11485"/>
                </a:cubicBezTo>
              </a:path>
              <a:path w="5383" h="870">
                <a:moveTo>
                  <a:pt x="16148" y="11485"/>
                </a:moveTo>
                <a:lnTo>
                  <a:pt x="16148" y="11485"/>
                </a:lnTo>
              </a:path>
              <a:path w="5383" h="870">
                <a:moveTo>
                  <a:pt x="21208" y="11112"/>
                </a:moveTo>
                <a:cubicBezTo>
                  <a:pt x="21221" y="11305"/>
                  <a:pt x="21245" y="11494"/>
                  <a:pt x="21282" y="11683"/>
                </a:cubicBezTo>
              </a:path>
              <a:path w="5383" h="870">
                <a:moveTo>
                  <a:pt x="21530" y="11212"/>
                </a:moveTo>
                <a:lnTo>
                  <a:pt x="21530" y="11212"/>
                </a:lnTo>
                <a:lnTo>
                  <a:pt x="21530" y="11212"/>
                </a:lnTo>
              </a:path>
              <a:path w="5383" h="870">
                <a:moveTo>
                  <a:pt x="21530" y="11212"/>
                </a:moveTo>
                <a:lnTo>
                  <a:pt x="21530" y="11212"/>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4160880" y="4268880"/>
            <a:ext cx="519120" cy="179280"/>
          </a:xfrm>
          <a:custGeom>
            <a:avLst/>
            <a:gdLst/>
            <a:ahLst/>
            <a:rect l="l" t="t" r="r" b="b"/>
            <a:pathLst>
              <a:path w="1440" h="497">
                <a:moveTo>
                  <a:pt x="11733" y="11931"/>
                </a:moveTo>
                <a:cubicBezTo>
                  <a:pt x="11757" y="11931"/>
                  <a:pt x="11765" y="11931"/>
                  <a:pt x="11757" y="11956"/>
                </a:cubicBezTo>
                <a:cubicBezTo>
                  <a:pt x="11799" y="11942"/>
                  <a:pt x="11789" y="11841"/>
                  <a:pt x="11733" y="11857"/>
                </a:cubicBezTo>
                <a:cubicBezTo>
                  <a:pt x="11565" y="11905"/>
                  <a:pt x="11446" y="12248"/>
                  <a:pt x="11633" y="12353"/>
                </a:cubicBezTo>
                <a:cubicBezTo>
                  <a:pt x="11773" y="12432"/>
                  <a:pt x="11979" y="12242"/>
                  <a:pt x="12080" y="12179"/>
                </a:cubicBezTo>
              </a:path>
              <a:path w="1440" h="497">
                <a:moveTo>
                  <a:pt x="12353" y="11906"/>
                </a:moveTo>
                <a:cubicBezTo>
                  <a:pt x="12178" y="11924"/>
                  <a:pt x="12032" y="11991"/>
                  <a:pt x="11981" y="12179"/>
                </a:cubicBezTo>
                <a:cubicBezTo>
                  <a:pt x="11989" y="12204"/>
                  <a:pt x="11997" y="12229"/>
                  <a:pt x="12005" y="12254"/>
                </a:cubicBezTo>
                <a:cubicBezTo>
                  <a:pt x="12230" y="12253"/>
                  <a:pt x="12212" y="12260"/>
                  <a:pt x="12353" y="12080"/>
                </a:cubicBezTo>
                <a:cubicBezTo>
                  <a:pt x="12353" y="11994"/>
                  <a:pt x="12333" y="12249"/>
                  <a:pt x="12502" y="12229"/>
                </a:cubicBezTo>
                <a:cubicBezTo>
                  <a:pt x="12642" y="12212"/>
                  <a:pt x="12701" y="11853"/>
                  <a:pt x="12650" y="12080"/>
                </a:cubicBezTo>
                <a:cubicBezTo>
                  <a:pt x="12720" y="12265"/>
                  <a:pt x="12652" y="12026"/>
                  <a:pt x="12650" y="12005"/>
                </a:cubicBezTo>
                <a:cubicBezTo>
                  <a:pt x="12650" y="11972"/>
                  <a:pt x="12650" y="11939"/>
                  <a:pt x="12650" y="11906"/>
                </a:cubicBezTo>
                <a:cubicBezTo>
                  <a:pt x="12807" y="11859"/>
                  <a:pt x="12934" y="11908"/>
                  <a:pt x="12998" y="12080"/>
                </a:cubicBezTo>
                <a:cubicBezTo>
                  <a:pt x="13017" y="12133"/>
                  <a:pt x="12993" y="12246"/>
                  <a:pt x="12973" y="1212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4884840" y="4106880"/>
            <a:ext cx="1884240" cy="268200"/>
          </a:xfrm>
          <a:custGeom>
            <a:avLst/>
            <a:gdLst/>
            <a:ahLst/>
            <a:rect l="l" t="t" r="r" b="b"/>
            <a:pathLst>
              <a:path w="5235" h="745">
                <a:moveTo>
                  <a:pt x="13568" y="11410"/>
                </a:moveTo>
                <a:cubicBezTo>
                  <a:pt x="13634" y="11635"/>
                  <a:pt x="13747" y="11858"/>
                  <a:pt x="13791" y="12080"/>
                </a:cubicBezTo>
                <a:cubicBezTo>
                  <a:pt x="13791" y="11967"/>
                  <a:pt x="13729" y="11859"/>
                  <a:pt x="13816" y="11757"/>
                </a:cubicBezTo>
                <a:cubicBezTo>
                  <a:pt x="14004" y="11538"/>
                  <a:pt x="14264" y="11844"/>
                  <a:pt x="14139" y="12055"/>
                </a:cubicBezTo>
                <a:cubicBezTo>
                  <a:pt x="13999" y="12292"/>
                  <a:pt x="13825" y="12118"/>
                  <a:pt x="13816" y="11956"/>
                </a:cubicBezTo>
              </a:path>
              <a:path w="5235" h="745">
                <a:moveTo>
                  <a:pt x="14163" y="11832"/>
                </a:moveTo>
                <a:cubicBezTo>
                  <a:pt x="14186" y="11836"/>
                  <a:pt x="14436" y="11895"/>
                  <a:pt x="14461" y="11857"/>
                </a:cubicBezTo>
                <a:cubicBezTo>
                  <a:pt x="14520" y="11768"/>
                  <a:pt x="14469" y="11732"/>
                  <a:pt x="14412" y="11683"/>
                </a:cubicBezTo>
                <a:cubicBezTo>
                  <a:pt x="14312" y="11763"/>
                  <a:pt x="14062" y="12013"/>
                  <a:pt x="14312" y="12105"/>
                </a:cubicBezTo>
                <a:cubicBezTo>
                  <a:pt x="14476" y="12105"/>
                  <a:pt x="14537" y="12095"/>
                  <a:pt x="14610" y="11981"/>
                </a:cubicBezTo>
              </a:path>
              <a:path w="5235" h="745">
                <a:moveTo>
                  <a:pt x="15032" y="11733"/>
                </a:moveTo>
                <a:cubicBezTo>
                  <a:pt x="15032" y="11854"/>
                  <a:pt x="14968" y="12016"/>
                  <a:pt x="15007" y="12129"/>
                </a:cubicBezTo>
                <a:cubicBezTo>
                  <a:pt x="15023" y="12137"/>
                  <a:pt x="15040" y="12146"/>
                  <a:pt x="15056" y="12154"/>
                </a:cubicBezTo>
                <a:cubicBezTo>
                  <a:pt x="15176" y="12053"/>
                  <a:pt x="15204" y="12002"/>
                  <a:pt x="15255" y="11857"/>
                </a:cubicBezTo>
                <a:cubicBezTo>
                  <a:pt x="15255" y="11964"/>
                  <a:pt x="15266" y="12087"/>
                  <a:pt x="15404" y="12105"/>
                </a:cubicBezTo>
                <a:cubicBezTo>
                  <a:pt x="15586" y="12128"/>
                  <a:pt x="15691" y="11873"/>
                  <a:pt x="15553" y="11757"/>
                </a:cubicBezTo>
                <a:cubicBezTo>
                  <a:pt x="15479" y="11739"/>
                  <a:pt x="15472" y="11731"/>
                  <a:pt x="15429" y="11733"/>
                </a:cubicBezTo>
              </a:path>
              <a:path w="5235" h="745">
                <a:moveTo>
                  <a:pt x="15751" y="11832"/>
                </a:moveTo>
                <a:cubicBezTo>
                  <a:pt x="15782" y="11897"/>
                  <a:pt x="15827" y="11971"/>
                  <a:pt x="15850" y="12030"/>
                </a:cubicBezTo>
                <a:cubicBezTo>
                  <a:pt x="15850" y="11922"/>
                  <a:pt x="15823" y="11821"/>
                  <a:pt x="15900" y="11733"/>
                </a:cubicBezTo>
                <a:cubicBezTo>
                  <a:pt x="15975" y="11647"/>
                  <a:pt x="16056" y="11669"/>
                  <a:pt x="16148" y="11683"/>
                </a:cubicBezTo>
              </a:path>
              <a:path w="5235" h="745">
                <a:moveTo>
                  <a:pt x="16346" y="11410"/>
                </a:moveTo>
                <a:cubicBezTo>
                  <a:pt x="16442" y="11601"/>
                  <a:pt x="16495" y="11740"/>
                  <a:pt x="16495" y="11956"/>
                </a:cubicBezTo>
              </a:path>
              <a:path w="5235" h="745">
                <a:moveTo>
                  <a:pt x="16570" y="11435"/>
                </a:moveTo>
                <a:cubicBezTo>
                  <a:pt x="16632" y="11623"/>
                  <a:pt x="16702" y="11811"/>
                  <a:pt x="16743" y="12005"/>
                </a:cubicBezTo>
                <a:cubicBezTo>
                  <a:pt x="16743" y="12030"/>
                  <a:pt x="16743" y="12038"/>
                  <a:pt x="16743" y="12005"/>
                </a:cubicBezTo>
              </a:path>
              <a:path w="5235" h="745">
                <a:moveTo>
                  <a:pt x="16371" y="11757"/>
                </a:moveTo>
                <a:cubicBezTo>
                  <a:pt x="16570" y="11751"/>
                  <a:pt x="16821" y="11776"/>
                  <a:pt x="17016" y="11733"/>
                </a:cubicBezTo>
                <a:cubicBezTo>
                  <a:pt x="17060" y="11723"/>
                  <a:pt x="17066" y="11697"/>
                  <a:pt x="17066" y="11658"/>
                </a:cubicBezTo>
                <a:cubicBezTo>
                  <a:pt x="16946" y="11634"/>
                  <a:pt x="16890" y="11684"/>
                  <a:pt x="16917" y="11832"/>
                </a:cubicBezTo>
                <a:cubicBezTo>
                  <a:pt x="16957" y="12053"/>
                  <a:pt x="17272" y="11952"/>
                  <a:pt x="17363" y="11832"/>
                </a:cubicBezTo>
                <a:cubicBezTo>
                  <a:pt x="17400" y="11783"/>
                  <a:pt x="17383" y="11664"/>
                  <a:pt x="17363" y="11782"/>
                </a:cubicBezTo>
                <a:cubicBezTo>
                  <a:pt x="17346" y="11859"/>
                  <a:pt x="17302" y="12034"/>
                  <a:pt x="17314" y="11807"/>
                </a:cubicBezTo>
                <a:cubicBezTo>
                  <a:pt x="17321" y="11662"/>
                  <a:pt x="17529" y="11539"/>
                  <a:pt x="17636" y="11708"/>
                </a:cubicBezTo>
                <a:cubicBezTo>
                  <a:pt x="17679" y="11777"/>
                  <a:pt x="17665" y="11918"/>
                  <a:pt x="17636" y="11956"/>
                </a:cubicBezTo>
              </a:path>
              <a:path w="5235" h="745">
                <a:moveTo>
                  <a:pt x="18281" y="11658"/>
                </a:moveTo>
                <a:cubicBezTo>
                  <a:pt x="18350" y="11773"/>
                  <a:pt x="18266" y="11603"/>
                  <a:pt x="18207" y="11609"/>
                </a:cubicBezTo>
                <a:cubicBezTo>
                  <a:pt x="18055" y="11624"/>
                  <a:pt x="17924" y="12011"/>
                  <a:pt x="18107" y="12005"/>
                </a:cubicBezTo>
                <a:cubicBezTo>
                  <a:pt x="18211" y="11954"/>
                  <a:pt x="18246" y="11933"/>
                  <a:pt x="18231" y="11832"/>
                </a:cubicBezTo>
                <a:cubicBezTo>
                  <a:pt x="18231" y="11815"/>
                  <a:pt x="18231" y="11799"/>
                  <a:pt x="18231" y="11782"/>
                </a:cubicBezTo>
                <a:cubicBezTo>
                  <a:pt x="18248" y="11827"/>
                  <a:pt x="18346" y="12080"/>
                  <a:pt x="18455" y="12005"/>
                </a:cubicBezTo>
                <a:cubicBezTo>
                  <a:pt x="18488" y="11964"/>
                  <a:pt x="18521" y="11922"/>
                  <a:pt x="18554" y="11881"/>
                </a:cubicBezTo>
              </a:path>
              <a:path w="5235" h="745">
                <a:moveTo>
                  <a:pt x="18579" y="11609"/>
                </a:moveTo>
                <a:cubicBezTo>
                  <a:pt x="18445" y="11641"/>
                  <a:pt x="18701" y="11735"/>
                  <a:pt x="18728" y="11757"/>
                </a:cubicBezTo>
                <a:cubicBezTo>
                  <a:pt x="18795" y="11825"/>
                  <a:pt x="18819" y="11839"/>
                  <a:pt x="18802" y="11906"/>
                </a:cubicBezTo>
                <a:cubicBezTo>
                  <a:pt x="18599" y="11978"/>
                  <a:pt x="18641" y="11974"/>
                  <a:pt x="18479" y="1183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946920" y="4000680"/>
            <a:ext cx="1305000" cy="277560"/>
          </a:xfrm>
          <a:custGeom>
            <a:avLst/>
            <a:gdLst/>
            <a:ahLst/>
            <a:rect l="l" t="t" r="r" b="b"/>
            <a:pathLst>
              <a:path w="3623" h="770">
                <a:moveTo>
                  <a:pt x="19745" y="11336"/>
                </a:moveTo>
                <a:cubicBezTo>
                  <a:pt x="19667" y="11207"/>
                  <a:pt x="19590" y="11112"/>
                  <a:pt x="19422" y="11112"/>
                </a:cubicBezTo>
                <a:cubicBezTo>
                  <a:pt x="19405" y="11120"/>
                  <a:pt x="19389" y="11129"/>
                  <a:pt x="19372" y="11137"/>
                </a:cubicBezTo>
                <a:cubicBezTo>
                  <a:pt x="19404" y="11393"/>
                  <a:pt x="19534" y="11632"/>
                  <a:pt x="19571" y="11881"/>
                </a:cubicBezTo>
                <a:cubicBezTo>
                  <a:pt x="19563" y="11881"/>
                  <a:pt x="19554" y="11881"/>
                  <a:pt x="19546" y="11881"/>
                </a:cubicBezTo>
              </a:path>
              <a:path w="3623" h="770">
                <a:moveTo>
                  <a:pt x="19298" y="11633"/>
                </a:moveTo>
                <a:cubicBezTo>
                  <a:pt x="19384" y="11633"/>
                  <a:pt x="19885" y="11577"/>
                  <a:pt x="19918" y="11633"/>
                </a:cubicBezTo>
                <a:cubicBezTo>
                  <a:pt x="19953" y="11692"/>
                  <a:pt x="19943" y="11768"/>
                  <a:pt x="19943" y="11832"/>
                </a:cubicBezTo>
                <a:cubicBezTo>
                  <a:pt x="19943" y="11739"/>
                  <a:pt x="19945" y="11565"/>
                  <a:pt x="20042" y="11509"/>
                </a:cubicBezTo>
                <a:cubicBezTo>
                  <a:pt x="20083" y="11501"/>
                  <a:pt x="20125" y="11493"/>
                  <a:pt x="20166" y="11485"/>
                </a:cubicBezTo>
              </a:path>
              <a:path w="3623" h="770">
                <a:moveTo>
                  <a:pt x="20389" y="11509"/>
                </a:moveTo>
                <a:cubicBezTo>
                  <a:pt x="20264" y="11542"/>
                  <a:pt x="20198" y="11660"/>
                  <a:pt x="20166" y="11807"/>
                </a:cubicBezTo>
                <a:cubicBezTo>
                  <a:pt x="20336" y="11777"/>
                  <a:pt x="20393" y="11769"/>
                  <a:pt x="20439" y="11584"/>
                </a:cubicBezTo>
                <a:cubicBezTo>
                  <a:pt x="20507" y="11787"/>
                  <a:pt x="20589" y="11719"/>
                  <a:pt x="20737" y="11633"/>
                </a:cubicBezTo>
              </a:path>
              <a:path w="3623" h="770">
                <a:moveTo>
                  <a:pt x="20886" y="11485"/>
                </a:moveTo>
                <a:cubicBezTo>
                  <a:pt x="20920" y="11485"/>
                  <a:pt x="20924" y="11476"/>
                  <a:pt x="20886" y="11435"/>
                </a:cubicBezTo>
                <a:cubicBezTo>
                  <a:pt x="20781" y="11443"/>
                  <a:pt x="20531" y="11652"/>
                  <a:pt x="20762" y="11733"/>
                </a:cubicBezTo>
                <a:cubicBezTo>
                  <a:pt x="20954" y="11733"/>
                  <a:pt x="21026" y="11721"/>
                  <a:pt x="21109" y="11584"/>
                </a:cubicBezTo>
              </a:path>
              <a:path w="3623" h="770">
                <a:moveTo>
                  <a:pt x="20960" y="11385"/>
                </a:moveTo>
                <a:cubicBezTo>
                  <a:pt x="21082" y="11385"/>
                  <a:pt x="21491" y="11311"/>
                  <a:pt x="21555" y="11435"/>
                </a:cubicBezTo>
                <a:cubicBezTo>
                  <a:pt x="21559" y="11442"/>
                  <a:pt x="21580" y="11762"/>
                  <a:pt x="21580" y="11609"/>
                </a:cubicBezTo>
              </a:path>
              <a:path w="3623" h="770">
                <a:moveTo>
                  <a:pt x="21878" y="11361"/>
                </a:moveTo>
                <a:cubicBezTo>
                  <a:pt x="21757" y="11421"/>
                  <a:pt x="21724" y="11569"/>
                  <a:pt x="21828" y="11683"/>
                </a:cubicBezTo>
                <a:cubicBezTo>
                  <a:pt x="21853" y="11691"/>
                  <a:pt x="21878" y="11700"/>
                  <a:pt x="21903" y="11708"/>
                </a:cubicBezTo>
                <a:cubicBezTo>
                  <a:pt x="22008" y="11549"/>
                  <a:pt x="22006" y="11473"/>
                  <a:pt x="21952" y="11286"/>
                </a:cubicBezTo>
                <a:cubicBezTo>
                  <a:pt x="22090" y="11314"/>
                  <a:pt x="22152" y="11394"/>
                  <a:pt x="22225" y="11509"/>
                </a:cubicBezTo>
                <a:cubicBezTo>
                  <a:pt x="22242" y="11542"/>
                  <a:pt x="22258" y="11576"/>
                  <a:pt x="22275" y="11609"/>
                </a:cubicBezTo>
                <a:cubicBezTo>
                  <a:pt x="22275" y="11634"/>
                  <a:pt x="22322" y="11413"/>
                  <a:pt x="22349" y="11361"/>
                </a:cubicBezTo>
                <a:cubicBezTo>
                  <a:pt x="22366" y="11336"/>
                  <a:pt x="22382" y="11311"/>
                  <a:pt x="22399" y="11286"/>
                </a:cubicBezTo>
                <a:cubicBezTo>
                  <a:pt x="22423" y="11345"/>
                  <a:pt x="22488" y="11654"/>
                  <a:pt x="22572" y="11658"/>
                </a:cubicBezTo>
                <a:cubicBezTo>
                  <a:pt x="22597" y="11642"/>
                  <a:pt x="22622" y="11625"/>
                  <a:pt x="22647" y="11609"/>
                </a:cubicBezTo>
              </a:path>
              <a:path w="3623" h="770">
                <a:moveTo>
                  <a:pt x="22895" y="11286"/>
                </a:moveTo>
                <a:cubicBezTo>
                  <a:pt x="22800" y="11262"/>
                  <a:pt x="22770" y="11251"/>
                  <a:pt x="22721" y="11311"/>
                </a:cubicBezTo>
                <a:cubicBezTo>
                  <a:pt x="22782" y="11414"/>
                  <a:pt x="22883" y="11474"/>
                  <a:pt x="22920" y="11584"/>
                </a:cubicBezTo>
                <a:cubicBezTo>
                  <a:pt x="22770" y="11641"/>
                  <a:pt x="22778" y="11616"/>
                  <a:pt x="22622" y="1153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303200" y="4313160"/>
            <a:ext cx="6742080" cy="509760"/>
          </a:xfrm>
          <a:custGeom>
            <a:avLst/>
            <a:gdLst/>
            <a:ahLst/>
            <a:rect l="l" t="t" r="r" b="b"/>
            <a:pathLst>
              <a:path w="18729" h="1415">
                <a:moveTo>
                  <a:pt x="3646" y="12874"/>
                </a:moveTo>
                <a:cubicBezTo>
                  <a:pt x="3688" y="12956"/>
                  <a:pt x="3696" y="12973"/>
                  <a:pt x="3721" y="13022"/>
                </a:cubicBezTo>
              </a:path>
              <a:path w="18729" h="1415">
                <a:moveTo>
                  <a:pt x="3621" y="12650"/>
                </a:moveTo>
                <a:lnTo>
                  <a:pt x="3621" y="12650"/>
                </a:lnTo>
                <a:lnTo>
                  <a:pt x="3621" y="12650"/>
                </a:lnTo>
                <a:lnTo>
                  <a:pt x="3621" y="12650"/>
                </a:lnTo>
              </a:path>
              <a:path w="18729" h="1415">
                <a:moveTo>
                  <a:pt x="3621" y="12650"/>
                </a:moveTo>
                <a:lnTo>
                  <a:pt x="3621" y="12650"/>
                </a:lnTo>
              </a:path>
              <a:path w="18729" h="1415">
                <a:moveTo>
                  <a:pt x="5507" y="12700"/>
                </a:moveTo>
                <a:cubicBezTo>
                  <a:pt x="5642" y="12672"/>
                  <a:pt x="5771" y="12638"/>
                  <a:pt x="5904" y="12601"/>
                </a:cubicBezTo>
              </a:path>
              <a:path w="18729" h="1415">
                <a:moveTo>
                  <a:pt x="9723" y="12427"/>
                </a:moveTo>
                <a:cubicBezTo>
                  <a:pt x="9594" y="12674"/>
                  <a:pt x="9451" y="12982"/>
                  <a:pt x="9550" y="13271"/>
                </a:cubicBezTo>
                <a:cubicBezTo>
                  <a:pt x="9593" y="13396"/>
                  <a:pt x="9724" y="13384"/>
                  <a:pt x="9823" y="13395"/>
                </a:cubicBezTo>
              </a:path>
              <a:path w="18729" h="1415">
                <a:moveTo>
                  <a:pt x="10244" y="12849"/>
                </a:moveTo>
                <a:cubicBezTo>
                  <a:pt x="10346" y="12944"/>
                  <a:pt x="10425" y="13048"/>
                  <a:pt x="10567" y="13072"/>
                </a:cubicBezTo>
              </a:path>
              <a:path w="18729" h="1415">
                <a:moveTo>
                  <a:pt x="10765" y="13047"/>
                </a:moveTo>
                <a:lnTo>
                  <a:pt x="10765" y="13047"/>
                </a:lnTo>
                <a:lnTo>
                  <a:pt x="10765" y="13047"/>
                </a:lnTo>
              </a:path>
              <a:path w="18729" h="1415">
                <a:moveTo>
                  <a:pt x="10765" y="13047"/>
                </a:moveTo>
                <a:lnTo>
                  <a:pt x="10765" y="13047"/>
                </a:lnTo>
              </a:path>
              <a:path w="18729" h="1415">
                <a:moveTo>
                  <a:pt x="10716" y="12774"/>
                </a:moveTo>
                <a:lnTo>
                  <a:pt x="10716" y="12774"/>
                </a:lnTo>
              </a:path>
              <a:path w="18729" h="1415">
                <a:moveTo>
                  <a:pt x="13717" y="12650"/>
                </a:moveTo>
                <a:lnTo>
                  <a:pt x="13717" y="12650"/>
                </a:lnTo>
              </a:path>
              <a:path w="18729" h="1415">
                <a:moveTo>
                  <a:pt x="13915" y="13047"/>
                </a:moveTo>
                <a:cubicBezTo>
                  <a:pt x="13907" y="13215"/>
                  <a:pt x="13931" y="13325"/>
                  <a:pt x="13767" y="13370"/>
                </a:cubicBezTo>
              </a:path>
              <a:path w="18729" h="1415">
                <a:moveTo>
                  <a:pt x="14932" y="12427"/>
                </a:moveTo>
                <a:cubicBezTo>
                  <a:pt x="14980" y="12505"/>
                  <a:pt x="15014" y="12562"/>
                  <a:pt x="15032" y="12650"/>
                </a:cubicBezTo>
              </a:path>
              <a:path w="18729" h="1415">
                <a:moveTo>
                  <a:pt x="14932" y="12824"/>
                </a:moveTo>
                <a:cubicBezTo>
                  <a:pt x="15041" y="12802"/>
                  <a:pt x="15145" y="12782"/>
                  <a:pt x="15255" y="12774"/>
                </a:cubicBezTo>
              </a:path>
              <a:path w="18729" h="1415">
                <a:moveTo>
                  <a:pt x="17289" y="12675"/>
                </a:moveTo>
                <a:lnTo>
                  <a:pt x="17289" y="12675"/>
                </a:lnTo>
                <a:lnTo>
                  <a:pt x="17289" y="12675"/>
                </a:lnTo>
              </a:path>
              <a:path w="18729" h="1415">
                <a:moveTo>
                  <a:pt x="17562" y="12973"/>
                </a:moveTo>
                <a:cubicBezTo>
                  <a:pt x="17663" y="13165"/>
                  <a:pt x="17665" y="13226"/>
                  <a:pt x="17462" y="13320"/>
                </a:cubicBezTo>
              </a:path>
              <a:path w="18729" h="1415">
                <a:moveTo>
                  <a:pt x="21828" y="11981"/>
                </a:moveTo>
                <a:cubicBezTo>
                  <a:pt x="22026" y="12020"/>
                  <a:pt x="22169" y="12248"/>
                  <a:pt x="22250" y="12427"/>
                </a:cubicBezTo>
                <a:cubicBezTo>
                  <a:pt x="22330" y="12605"/>
                  <a:pt x="22421" y="12925"/>
                  <a:pt x="22275" y="13097"/>
                </a:cubicBezTo>
                <a:cubicBezTo>
                  <a:pt x="22234" y="13117"/>
                  <a:pt x="22228" y="13126"/>
                  <a:pt x="22200" y="1312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054080" y="4510080"/>
            <a:ext cx="1009800" cy="214200"/>
          </a:xfrm>
          <a:custGeom>
            <a:avLst/>
            <a:gdLst/>
            <a:ahLst/>
            <a:rect l="l" t="t" r="r" b="b"/>
            <a:pathLst>
              <a:path w="2804" h="597">
                <a:moveTo>
                  <a:pt x="2927" y="12799"/>
                </a:moveTo>
                <a:cubicBezTo>
                  <a:pt x="2944" y="12899"/>
                  <a:pt x="2953" y="13001"/>
                  <a:pt x="2977" y="13097"/>
                </a:cubicBezTo>
                <a:cubicBezTo>
                  <a:pt x="3115" y="13097"/>
                  <a:pt x="3145" y="13048"/>
                  <a:pt x="3175" y="12898"/>
                </a:cubicBezTo>
                <a:cubicBezTo>
                  <a:pt x="3198" y="12988"/>
                  <a:pt x="3234" y="13102"/>
                  <a:pt x="3349" y="13122"/>
                </a:cubicBezTo>
                <a:cubicBezTo>
                  <a:pt x="3528" y="13154"/>
                  <a:pt x="3527" y="12900"/>
                  <a:pt x="3423" y="12824"/>
                </a:cubicBezTo>
                <a:cubicBezTo>
                  <a:pt x="3398" y="12816"/>
                  <a:pt x="3374" y="12807"/>
                  <a:pt x="3349" y="12799"/>
                </a:cubicBezTo>
              </a:path>
              <a:path w="2804" h="597">
                <a:moveTo>
                  <a:pt x="3845" y="12526"/>
                </a:moveTo>
                <a:cubicBezTo>
                  <a:pt x="3917" y="12670"/>
                  <a:pt x="3950" y="12845"/>
                  <a:pt x="4043" y="12973"/>
                </a:cubicBezTo>
                <a:cubicBezTo>
                  <a:pt x="4043" y="12965"/>
                  <a:pt x="4043" y="12956"/>
                  <a:pt x="4043" y="12948"/>
                </a:cubicBezTo>
              </a:path>
              <a:path w="2804" h="597">
                <a:moveTo>
                  <a:pt x="3746" y="12799"/>
                </a:moveTo>
                <a:cubicBezTo>
                  <a:pt x="3851" y="12807"/>
                  <a:pt x="4253" y="12867"/>
                  <a:pt x="4266" y="12675"/>
                </a:cubicBezTo>
                <a:cubicBezTo>
                  <a:pt x="4250" y="12642"/>
                  <a:pt x="4233" y="12609"/>
                  <a:pt x="4217" y="12576"/>
                </a:cubicBezTo>
                <a:cubicBezTo>
                  <a:pt x="4136" y="12630"/>
                  <a:pt x="4270" y="12855"/>
                  <a:pt x="4291" y="12948"/>
                </a:cubicBezTo>
                <a:cubicBezTo>
                  <a:pt x="4291" y="12965"/>
                  <a:pt x="4291" y="12981"/>
                  <a:pt x="4291" y="12998"/>
                </a:cubicBezTo>
                <a:cubicBezTo>
                  <a:pt x="4303" y="12929"/>
                  <a:pt x="4331" y="12743"/>
                  <a:pt x="4415" y="12725"/>
                </a:cubicBezTo>
                <a:cubicBezTo>
                  <a:pt x="4566" y="12693"/>
                  <a:pt x="4638" y="12898"/>
                  <a:pt x="4663" y="12998"/>
                </a:cubicBezTo>
              </a:path>
              <a:path w="2804" h="597">
                <a:moveTo>
                  <a:pt x="4887" y="12725"/>
                </a:moveTo>
                <a:cubicBezTo>
                  <a:pt x="4748" y="12821"/>
                  <a:pt x="4744" y="12860"/>
                  <a:pt x="4713" y="13022"/>
                </a:cubicBezTo>
                <a:cubicBezTo>
                  <a:pt x="4790" y="13026"/>
                  <a:pt x="5211" y="12988"/>
                  <a:pt x="5035" y="12799"/>
                </a:cubicBezTo>
                <a:cubicBezTo>
                  <a:pt x="4929" y="12757"/>
                  <a:pt x="4908" y="12741"/>
                  <a:pt x="4837" y="12750"/>
                </a:cubicBezTo>
              </a:path>
              <a:path w="2804" h="597">
                <a:moveTo>
                  <a:pt x="5135" y="12874"/>
                </a:moveTo>
                <a:cubicBezTo>
                  <a:pt x="5175" y="12997"/>
                  <a:pt x="5240" y="13033"/>
                  <a:pt x="5333" y="12898"/>
                </a:cubicBezTo>
                <a:cubicBezTo>
                  <a:pt x="5350" y="12865"/>
                  <a:pt x="5366" y="12832"/>
                  <a:pt x="5383" y="12799"/>
                </a:cubicBezTo>
                <a:cubicBezTo>
                  <a:pt x="5366" y="12867"/>
                  <a:pt x="5334" y="13005"/>
                  <a:pt x="5482" y="12973"/>
                </a:cubicBezTo>
                <a:cubicBezTo>
                  <a:pt x="5716" y="12923"/>
                  <a:pt x="5673" y="12714"/>
                  <a:pt x="5631" y="12551"/>
                </a:cubicBezTo>
                <a:cubicBezTo>
                  <a:pt x="5638" y="12616"/>
                  <a:pt x="5652" y="12891"/>
                  <a:pt x="5730" y="12923"/>
                </a:cubicBezTo>
                <a:cubicBezTo>
                  <a:pt x="5730" y="12907"/>
                  <a:pt x="5730" y="12890"/>
                  <a:pt x="5730" y="1287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2357280" y="4562640"/>
            <a:ext cx="179640" cy="144360"/>
          </a:xfrm>
          <a:custGeom>
            <a:avLst/>
            <a:gdLst/>
            <a:ahLst/>
            <a:rect l="l" t="t" r="r" b="b"/>
            <a:pathLst>
              <a:path w="498" h="398">
                <a:moveTo>
                  <a:pt x="6821" y="12750"/>
                </a:moveTo>
                <a:cubicBezTo>
                  <a:pt x="6877" y="12694"/>
                  <a:pt x="6726" y="12642"/>
                  <a:pt x="6648" y="12725"/>
                </a:cubicBezTo>
                <a:cubicBezTo>
                  <a:pt x="6457" y="12930"/>
                  <a:pt x="6612" y="13247"/>
                  <a:pt x="6846" y="12973"/>
                </a:cubicBezTo>
                <a:cubicBezTo>
                  <a:pt x="6863" y="12923"/>
                  <a:pt x="6879" y="12874"/>
                  <a:pt x="6896" y="12824"/>
                </a:cubicBezTo>
                <a:cubicBezTo>
                  <a:pt x="6888" y="12807"/>
                  <a:pt x="6879" y="12791"/>
                  <a:pt x="6871" y="12774"/>
                </a:cubicBezTo>
                <a:cubicBezTo>
                  <a:pt x="6904" y="12873"/>
                  <a:pt x="6953" y="12917"/>
                  <a:pt x="7045" y="1294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2678040" y="4537080"/>
            <a:ext cx="581040" cy="285840"/>
          </a:xfrm>
          <a:custGeom>
            <a:avLst/>
            <a:gdLst/>
            <a:ahLst/>
            <a:rect l="l" t="t" r="r" b="b"/>
            <a:pathLst>
              <a:path w="1614" h="795">
                <a:moveTo>
                  <a:pt x="7466" y="12849"/>
                </a:moveTo>
                <a:cubicBezTo>
                  <a:pt x="7389" y="12875"/>
                  <a:pt x="7463" y="12697"/>
                  <a:pt x="7541" y="12675"/>
                </a:cubicBezTo>
                <a:cubicBezTo>
                  <a:pt x="7850" y="12586"/>
                  <a:pt x="7616" y="12854"/>
                  <a:pt x="7565" y="12923"/>
                </a:cubicBezTo>
                <a:cubicBezTo>
                  <a:pt x="7565" y="12931"/>
                  <a:pt x="7565" y="12940"/>
                  <a:pt x="7565" y="12948"/>
                </a:cubicBezTo>
                <a:cubicBezTo>
                  <a:pt x="7745" y="12922"/>
                  <a:pt x="7945" y="12976"/>
                  <a:pt x="7987" y="13196"/>
                </a:cubicBezTo>
                <a:cubicBezTo>
                  <a:pt x="8039" y="13468"/>
                  <a:pt x="7729" y="13375"/>
                  <a:pt x="7590" y="13370"/>
                </a:cubicBezTo>
                <a:cubicBezTo>
                  <a:pt x="7582" y="13345"/>
                  <a:pt x="7573" y="13320"/>
                  <a:pt x="7565" y="13295"/>
                </a:cubicBezTo>
                <a:cubicBezTo>
                  <a:pt x="7673" y="13138"/>
                  <a:pt x="7821" y="13032"/>
                  <a:pt x="7962" y="12898"/>
                </a:cubicBezTo>
              </a:path>
              <a:path w="1614" h="795">
                <a:moveTo>
                  <a:pt x="7987" y="12874"/>
                </a:moveTo>
                <a:cubicBezTo>
                  <a:pt x="8036" y="12818"/>
                  <a:pt x="8087" y="12781"/>
                  <a:pt x="8136" y="12725"/>
                </a:cubicBezTo>
                <a:cubicBezTo>
                  <a:pt x="7940" y="12725"/>
                  <a:pt x="7931" y="12788"/>
                  <a:pt x="7863" y="12948"/>
                </a:cubicBezTo>
                <a:cubicBezTo>
                  <a:pt x="8133" y="13090"/>
                  <a:pt x="8155" y="12963"/>
                  <a:pt x="8384" y="12824"/>
                </a:cubicBezTo>
                <a:cubicBezTo>
                  <a:pt x="8422" y="12801"/>
                  <a:pt x="8384" y="12886"/>
                  <a:pt x="8409" y="12849"/>
                </a:cubicBezTo>
                <a:cubicBezTo>
                  <a:pt x="8533" y="12663"/>
                  <a:pt x="8607" y="12609"/>
                  <a:pt x="8830" y="12601"/>
                </a:cubicBezTo>
                <a:cubicBezTo>
                  <a:pt x="8847" y="12601"/>
                  <a:pt x="8863" y="12601"/>
                  <a:pt x="8880" y="12601"/>
                </a:cubicBezTo>
                <a:cubicBezTo>
                  <a:pt x="8731" y="12700"/>
                  <a:pt x="8764" y="12797"/>
                  <a:pt x="8806" y="12948"/>
                </a:cubicBezTo>
                <a:cubicBezTo>
                  <a:pt x="9003" y="12894"/>
                  <a:pt x="9209" y="12785"/>
                  <a:pt x="8930" y="12626"/>
                </a:cubicBezTo>
                <a:cubicBezTo>
                  <a:pt x="8897" y="12618"/>
                  <a:pt x="8863" y="12609"/>
                  <a:pt x="8830" y="1260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510000" y="4581360"/>
            <a:ext cx="285840" cy="177840"/>
          </a:xfrm>
          <a:custGeom>
            <a:avLst/>
            <a:gdLst/>
            <a:ahLst/>
            <a:rect l="l" t="t" r="r" b="b"/>
            <a:pathLst>
              <a:path w="795" h="497">
                <a:moveTo>
                  <a:pt x="9773" y="13047"/>
                </a:moveTo>
                <a:cubicBezTo>
                  <a:pt x="9884" y="13015"/>
                  <a:pt x="9980" y="12998"/>
                  <a:pt x="10096" y="12998"/>
                </a:cubicBezTo>
                <a:cubicBezTo>
                  <a:pt x="10023" y="12939"/>
                  <a:pt x="9900" y="12829"/>
                  <a:pt x="9798" y="12874"/>
                </a:cubicBezTo>
                <a:cubicBezTo>
                  <a:pt x="9592" y="12965"/>
                  <a:pt x="9916" y="13221"/>
                  <a:pt x="10046" y="13196"/>
                </a:cubicBezTo>
                <a:cubicBezTo>
                  <a:pt x="10087" y="13171"/>
                  <a:pt x="10129" y="13147"/>
                  <a:pt x="10170" y="13122"/>
                </a:cubicBezTo>
              </a:path>
              <a:path w="795" h="497">
                <a:moveTo>
                  <a:pt x="10542" y="12725"/>
                </a:moveTo>
                <a:cubicBezTo>
                  <a:pt x="10483" y="12890"/>
                  <a:pt x="10194" y="13245"/>
                  <a:pt x="10368" y="13221"/>
                </a:cubicBezTo>
                <a:cubicBezTo>
                  <a:pt x="10401" y="13196"/>
                  <a:pt x="10435" y="13171"/>
                  <a:pt x="10468" y="1314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017960" y="4581360"/>
            <a:ext cx="519120" cy="169920"/>
          </a:xfrm>
          <a:custGeom>
            <a:avLst/>
            <a:gdLst/>
            <a:ahLst/>
            <a:rect l="l" t="t" r="r" b="b"/>
            <a:pathLst>
              <a:path w="1440" h="472">
                <a:moveTo>
                  <a:pt x="11187" y="12824"/>
                </a:moveTo>
                <a:cubicBezTo>
                  <a:pt x="11179" y="12816"/>
                  <a:pt x="11170" y="12807"/>
                  <a:pt x="11162" y="12799"/>
                </a:cubicBezTo>
                <a:cubicBezTo>
                  <a:pt x="11277" y="12786"/>
                  <a:pt x="11393" y="12763"/>
                  <a:pt x="11509" y="12750"/>
                </a:cubicBezTo>
                <a:cubicBezTo>
                  <a:pt x="11536" y="12844"/>
                  <a:pt x="11491" y="13038"/>
                  <a:pt x="11460" y="13146"/>
                </a:cubicBezTo>
                <a:cubicBezTo>
                  <a:pt x="11447" y="13192"/>
                  <a:pt x="11431" y="13155"/>
                  <a:pt x="11485" y="13196"/>
                </a:cubicBezTo>
              </a:path>
              <a:path w="1440" h="472">
                <a:moveTo>
                  <a:pt x="11906" y="12923"/>
                </a:moveTo>
                <a:cubicBezTo>
                  <a:pt x="12073" y="12923"/>
                  <a:pt x="12233" y="12883"/>
                  <a:pt x="12402" y="12874"/>
                </a:cubicBezTo>
                <a:cubicBezTo>
                  <a:pt x="12410" y="12874"/>
                  <a:pt x="12419" y="12874"/>
                  <a:pt x="12427" y="12874"/>
                </a:cubicBezTo>
              </a:path>
              <a:path w="1440" h="472">
                <a:moveTo>
                  <a:pt x="12204" y="12725"/>
                </a:moveTo>
                <a:cubicBezTo>
                  <a:pt x="12337" y="12760"/>
                  <a:pt x="12474" y="12764"/>
                  <a:pt x="12601" y="12799"/>
                </a:cubicBezTo>
                <a:cubicBezTo>
                  <a:pt x="12591" y="12848"/>
                  <a:pt x="12462" y="13067"/>
                  <a:pt x="12477" y="13097"/>
                </a:cubicBezTo>
                <a:cubicBezTo>
                  <a:pt x="12493" y="13097"/>
                  <a:pt x="12510" y="13097"/>
                  <a:pt x="12526" y="1309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714920" y="4456080"/>
            <a:ext cx="160200" cy="357120"/>
          </a:xfrm>
          <a:custGeom>
            <a:avLst/>
            <a:gdLst/>
            <a:ahLst/>
            <a:rect l="l" t="t" r="r" b="b"/>
            <a:pathLst>
              <a:path w="447" h="993">
                <a:moveTo>
                  <a:pt x="13097" y="12427"/>
                </a:moveTo>
                <a:cubicBezTo>
                  <a:pt x="13190" y="12400"/>
                  <a:pt x="13274" y="12385"/>
                  <a:pt x="13370" y="12378"/>
                </a:cubicBezTo>
                <a:cubicBezTo>
                  <a:pt x="13370" y="12481"/>
                  <a:pt x="13317" y="12574"/>
                  <a:pt x="13295" y="12675"/>
                </a:cubicBezTo>
                <a:cubicBezTo>
                  <a:pt x="13295" y="12700"/>
                  <a:pt x="13295" y="12708"/>
                  <a:pt x="13295" y="12725"/>
                </a:cubicBezTo>
              </a:path>
              <a:path w="447" h="993">
                <a:moveTo>
                  <a:pt x="13122" y="12898"/>
                </a:moveTo>
                <a:cubicBezTo>
                  <a:pt x="13264" y="12875"/>
                  <a:pt x="13399" y="12849"/>
                  <a:pt x="13543" y="12849"/>
                </a:cubicBezTo>
              </a:path>
              <a:path w="447" h="993">
                <a:moveTo>
                  <a:pt x="13345" y="13072"/>
                </a:moveTo>
                <a:cubicBezTo>
                  <a:pt x="13345" y="13171"/>
                  <a:pt x="13345" y="13271"/>
                  <a:pt x="13345" y="1337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187960" y="4554360"/>
            <a:ext cx="115920" cy="169920"/>
          </a:xfrm>
          <a:custGeom>
            <a:avLst/>
            <a:gdLst/>
            <a:ahLst/>
            <a:rect l="l" t="t" r="r" b="b"/>
            <a:pathLst>
              <a:path w="323" h="473">
                <a:moveTo>
                  <a:pt x="14486" y="12700"/>
                </a:moveTo>
                <a:cubicBezTo>
                  <a:pt x="14460" y="12648"/>
                  <a:pt x="14604" y="12607"/>
                  <a:pt x="14660" y="12675"/>
                </a:cubicBezTo>
                <a:cubicBezTo>
                  <a:pt x="14742" y="12775"/>
                  <a:pt x="14597" y="12828"/>
                  <a:pt x="14536" y="12874"/>
                </a:cubicBezTo>
                <a:cubicBezTo>
                  <a:pt x="14528" y="12882"/>
                  <a:pt x="14519" y="12890"/>
                  <a:pt x="14511" y="12898"/>
                </a:cubicBezTo>
                <a:cubicBezTo>
                  <a:pt x="14532" y="12837"/>
                  <a:pt x="14669" y="12866"/>
                  <a:pt x="14709" y="12923"/>
                </a:cubicBezTo>
                <a:cubicBezTo>
                  <a:pt x="14817" y="13078"/>
                  <a:pt x="14568" y="13157"/>
                  <a:pt x="14461" y="13122"/>
                </a:cubicBezTo>
                <a:cubicBezTo>
                  <a:pt x="14417" y="13077"/>
                  <a:pt x="14400" y="13067"/>
                  <a:pt x="14412" y="1302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446800" y="4518000"/>
            <a:ext cx="349200" cy="241200"/>
          </a:xfrm>
          <a:custGeom>
            <a:avLst/>
            <a:gdLst/>
            <a:ahLst/>
            <a:rect l="l" t="t" r="r" b="b"/>
            <a:pathLst>
              <a:path w="968" h="671">
                <a:moveTo>
                  <a:pt x="15131" y="12923"/>
                </a:moveTo>
                <a:cubicBezTo>
                  <a:pt x="15201" y="12935"/>
                  <a:pt x="15250" y="12954"/>
                  <a:pt x="15304" y="12998"/>
                </a:cubicBezTo>
                <a:cubicBezTo>
                  <a:pt x="15250" y="13071"/>
                  <a:pt x="15162" y="13143"/>
                  <a:pt x="15131" y="13221"/>
                </a:cubicBezTo>
                <a:cubicBezTo>
                  <a:pt x="15204" y="13221"/>
                  <a:pt x="15323" y="13248"/>
                  <a:pt x="15379" y="13196"/>
                </a:cubicBezTo>
                <a:cubicBezTo>
                  <a:pt x="15396" y="13179"/>
                  <a:pt x="15412" y="13163"/>
                  <a:pt x="15429" y="13146"/>
                </a:cubicBezTo>
              </a:path>
              <a:path w="968" h="671">
                <a:moveTo>
                  <a:pt x="15627" y="12774"/>
                </a:moveTo>
                <a:cubicBezTo>
                  <a:pt x="15752" y="12762"/>
                  <a:pt x="15871" y="12750"/>
                  <a:pt x="15999" y="12750"/>
                </a:cubicBezTo>
              </a:path>
              <a:path w="968" h="671">
                <a:moveTo>
                  <a:pt x="15677" y="12551"/>
                </a:moveTo>
                <a:cubicBezTo>
                  <a:pt x="15771" y="12635"/>
                  <a:pt x="15934" y="12672"/>
                  <a:pt x="16073" y="12700"/>
                </a:cubicBezTo>
                <a:cubicBezTo>
                  <a:pt x="16081" y="12700"/>
                  <a:pt x="16090" y="12700"/>
                  <a:pt x="16098" y="12700"/>
                </a:cubicBezTo>
                <a:cubicBezTo>
                  <a:pt x="16085" y="12826"/>
                  <a:pt x="16052" y="12900"/>
                  <a:pt x="15974" y="1299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938920" y="4411800"/>
            <a:ext cx="214200" cy="401400"/>
          </a:xfrm>
          <a:custGeom>
            <a:avLst/>
            <a:gdLst/>
            <a:ahLst/>
            <a:rect l="l" t="t" r="r" b="b"/>
            <a:pathLst>
              <a:path w="596" h="1117">
                <a:moveTo>
                  <a:pt x="16495" y="12303"/>
                </a:moveTo>
                <a:cubicBezTo>
                  <a:pt x="16603" y="12292"/>
                  <a:pt x="16708" y="12261"/>
                  <a:pt x="16818" y="12254"/>
                </a:cubicBezTo>
                <a:cubicBezTo>
                  <a:pt x="16826" y="12254"/>
                  <a:pt x="16834" y="12254"/>
                  <a:pt x="16842" y="12254"/>
                </a:cubicBezTo>
                <a:cubicBezTo>
                  <a:pt x="16831" y="12383"/>
                  <a:pt x="16797" y="12483"/>
                  <a:pt x="16743" y="12601"/>
                </a:cubicBezTo>
              </a:path>
              <a:path w="596" h="1117">
                <a:moveTo>
                  <a:pt x="16520" y="12774"/>
                </a:moveTo>
                <a:cubicBezTo>
                  <a:pt x="16682" y="12750"/>
                  <a:pt x="16928" y="12670"/>
                  <a:pt x="17090" y="12725"/>
                </a:cubicBezTo>
                <a:cubicBezTo>
                  <a:pt x="17090" y="12733"/>
                  <a:pt x="17090" y="12742"/>
                  <a:pt x="17090" y="12750"/>
                </a:cubicBezTo>
              </a:path>
              <a:path w="596" h="1117">
                <a:moveTo>
                  <a:pt x="16644" y="13022"/>
                </a:moveTo>
                <a:cubicBezTo>
                  <a:pt x="16734" y="13022"/>
                  <a:pt x="16809" y="13006"/>
                  <a:pt x="16892" y="13022"/>
                </a:cubicBezTo>
                <a:cubicBezTo>
                  <a:pt x="16913" y="13105"/>
                  <a:pt x="16775" y="13235"/>
                  <a:pt x="16694" y="13320"/>
                </a:cubicBezTo>
                <a:cubicBezTo>
                  <a:pt x="16669" y="13345"/>
                  <a:pt x="16661" y="13353"/>
                  <a:pt x="16694" y="13370"/>
                </a:cubicBezTo>
                <a:cubicBezTo>
                  <a:pt x="16801" y="13370"/>
                  <a:pt x="16909" y="13370"/>
                  <a:pt x="17016" y="1337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562800" y="4483080"/>
            <a:ext cx="768240" cy="204840"/>
          </a:xfrm>
          <a:custGeom>
            <a:avLst/>
            <a:gdLst/>
            <a:ahLst/>
            <a:rect l="l" t="t" r="r" b="b"/>
            <a:pathLst>
              <a:path w="2135" h="571">
                <a:moveTo>
                  <a:pt x="18306" y="12601"/>
                </a:moveTo>
                <a:cubicBezTo>
                  <a:pt x="18279" y="12667"/>
                  <a:pt x="18258" y="12733"/>
                  <a:pt x="18231" y="12799"/>
                </a:cubicBezTo>
                <a:cubicBezTo>
                  <a:pt x="18284" y="12817"/>
                  <a:pt x="18522" y="12855"/>
                  <a:pt x="18579" y="12799"/>
                </a:cubicBezTo>
                <a:cubicBezTo>
                  <a:pt x="18579" y="12783"/>
                  <a:pt x="18579" y="12766"/>
                  <a:pt x="18579" y="12750"/>
                </a:cubicBezTo>
              </a:path>
              <a:path w="2135" h="571">
                <a:moveTo>
                  <a:pt x="18554" y="12502"/>
                </a:moveTo>
                <a:cubicBezTo>
                  <a:pt x="18554" y="12675"/>
                  <a:pt x="18554" y="12849"/>
                  <a:pt x="18554" y="13022"/>
                </a:cubicBezTo>
              </a:path>
              <a:path w="2135" h="571">
                <a:moveTo>
                  <a:pt x="18852" y="12923"/>
                </a:moveTo>
                <a:cubicBezTo>
                  <a:pt x="18852" y="12977"/>
                  <a:pt x="18825" y="13060"/>
                  <a:pt x="18876" y="12973"/>
                </a:cubicBezTo>
              </a:path>
              <a:path w="2135" h="571">
                <a:moveTo>
                  <a:pt x="19149" y="12551"/>
                </a:moveTo>
                <a:cubicBezTo>
                  <a:pt x="19103" y="12536"/>
                  <a:pt x="19148" y="12498"/>
                  <a:pt x="19199" y="12477"/>
                </a:cubicBezTo>
                <a:cubicBezTo>
                  <a:pt x="19373" y="12406"/>
                  <a:pt x="19422" y="12510"/>
                  <a:pt x="19298" y="12650"/>
                </a:cubicBezTo>
                <a:cubicBezTo>
                  <a:pt x="19273" y="12667"/>
                  <a:pt x="19249" y="12683"/>
                  <a:pt x="19224" y="12700"/>
                </a:cubicBezTo>
                <a:cubicBezTo>
                  <a:pt x="19173" y="12734"/>
                  <a:pt x="19257" y="12690"/>
                  <a:pt x="19348" y="12725"/>
                </a:cubicBezTo>
                <a:cubicBezTo>
                  <a:pt x="19571" y="12810"/>
                  <a:pt x="19392" y="12958"/>
                  <a:pt x="19248" y="12998"/>
                </a:cubicBezTo>
                <a:cubicBezTo>
                  <a:pt x="19142" y="13027"/>
                  <a:pt x="19150" y="12987"/>
                  <a:pt x="19199" y="12948"/>
                </a:cubicBezTo>
              </a:path>
              <a:path w="2135" h="571">
                <a:moveTo>
                  <a:pt x="19794" y="12675"/>
                </a:moveTo>
                <a:cubicBezTo>
                  <a:pt x="19922" y="12611"/>
                  <a:pt x="20116" y="12629"/>
                  <a:pt x="20265" y="12626"/>
                </a:cubicBezTo>
                <a:cubicBezTo>
                  <a:pt x="20290" y="12626"/>
                  <a:pt x="20315" y="12626"/>
                  <a:pt x="20340" y="12626"/>
                </a:cubicBezTo>
              </a:path>
              <a:path w="2135" h="571">
                <a:moveTo>
                  <a:pt x="20017" y="12502"/>
                </a:moveTo>
                <a:cubicBezTo>
                  <a:pt x="20102" y="12516"/>
                  <a:pt x="20305" y="12490"/>
                  <a:pt x="20365" y="12551"/>
                </a:cubicBezTo>
                <a:cubicBezTo>
                  <a:pt x="20454" y="12640"/>
                  <a:pt x="20192" y="12832"/>
                  <a:pt x="20166" y="12898"/>
                </a:cubicBezTo>
                <a:cubicBezTo>
                  <a:pt x="20174" y="12898"/>
                  <a:pt x="20183" y="12898"/>
                  <a:pt x="20191" y="1289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491240" y="4348080"/>
            <a:ext cx="366840" cy="384120"/>
          </a:xfrm>
          <a:custGeom>
            <a:avLst/>
            <a:gdLst/>
            <a:ahLst/>
            <a:rect l="l" t="t" r="r" b="b"/>
            <a:pathLst>
              <a:path w="1018" h="1067">
                <a:moveTo>
                  <a:pt x="20811" y="12378"/>
                </a:moveTo>
                <a:cubicBezTo>
                  <a:pt x="20846" y="12469"/>
                  <a:pt x="20829" y="12526"/>
                  <a:pt x="20811" y="12626"/>
                </a:cubicBezTo>
                <a:cubicBezTo>
                  <a:pt x="20920" y="12641"/>
                  <a:pt x="21000" y="12634"/>
                  <a:pt x="21109" y="12626"/>
                </a:cubicBezTo>
              </a:path>
              <a:path w="1018" h="1067">
                <a:moveTo>
                  <a:pt x="21034" y="12328"/>
                </a:moveTo>
                <a:cubicBezTo>
                  <a:pt x="21086" y="12510"/>
                  <a:pt x="21043" y="12696"/>
                  <a:pt x="21084" y="12874"/>
                </a:cubicBezTo>
                <a:cubicBezTo>
                  <a:pt x="21092" y="12874"/>
                  <a:pt x="21101" y="12874"/>
                  <a:pt x="21109" y="12874"/>
                </a:cubicBezTo>
              </a:path>
              <a:path w="1018" h="1067">
                <a:moveTo>
                  <a:pt x="21382" y="12154"/>
                </a:moveTo>
                <a:cubicBezTo>
                  <a:pt x="21409" y="12127"/>
                  <a:pt x="21572" y="12036"/>
                  <a:pt x="21630" y="12105"/>
                </a:cubicBezTo>
                <a:cubicBezTo>
                  <a:pt x="21705" y="12193"/>
                  <a:pt x="21506" y="12243"/>
                  <a:pt x="21481" y="12254"/>
                </a:cubicBezTo>
                <a:cubicBezTo>
                  <a:pt x="21473" y="12262"/>
                  <a:pt x="21464" y="12270"/>
                  <a:pt x="21456" y="12278"/>
                </a:cubicBezTo>
                <a:cubicBezTo>
                  <a:pt x="21545" y="12226"/>
                  <a:pt x="21607" y="12247"/>
                  <a:pt x="21679" y="12328"/>
                </a:cubicBezTo>
                <a:cubicBezTo>
                  <a:pt x="21687" y="12345"/>
                  <a:pt x="21696" y="12361"/>
                  <a:pt x="21704" y="12378"/>
                </a:cubicBezTo>
                <a:cubicBezTo>
                  <a:pt x="21622" y="12450"/>
                  <a:pt x="21591" y="12477"/>
                  <a:pt x="21481" y="12477"/>
                </a:cubicBezTo>
              </a:path>
              <a:path w="1018" h="1067">
                <a:moveTo>
                  <a:pt x="21282" y="12626"/>
                </a:moveTo>
                <a:cubicBezTo>
                  <a:pt x="21449" y="12609"/>
                  <a:pt x="21611" y="12582"/>
                  <a:pt x="21779" y="12576"/>
                </a:cubicBezTo>
                <a:cubicBezTo>
                  <a:pt x="21787" y="12576"/>
                  <a:pt x="21795" y="12576"/>
                  <a:pt x="21803" y="12576"/>
                </a:cubicBezTo>
              </a:path>
              <a:path w="1018" h="1067">
                <a:moveTo>
                  <a:pt x="21456" y="12799"/>
                </a:moveTo>
                <a:cubicBezTo>
                  <a:pt x="21438" y="12906"/>
                  <a:pt x="21403" y="13015"/>
                  <a:pt x="21382" y="13122"/>
                </a:cubicBezTo>
                <a:cubicBezTo>
                  <a:pt x="21382" y="13156"/>
                  <a:pt x="21386" y="13155"/>
                  <a:pt x="21406" y="13097"/>
                </a:cubicBezTo>
              </a:path>
              <a:path w="1018" h="1067">
                <a:moveTo>
                  <a:pt x="21704" y="12799"/>
                </a:moveTo>
                <a:cubicBezTo>
                  <a:pt x="21626" y="12877"/>
                  <a:pt x="21601" y="12906"/>
                  <a:pt x="21580" y="13022"/>
                </a:cubicBezTo>
                <a:cubicBezTo>
                  <a:pt x="21659" y="13058"/>
                  <a:pt x="21885" y="13079"/>
                  <a:pt x="21828" y="12898"/>
                </a:cubicBezTo>
                <a:cubicBezTo>
                  <a:pt x="21811" y="12843"/>
                  <a:pt x="21720" y="12826"/>
                  <a:pt x="21679" y="1279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884760" y="5224320"/>
            <a:ext cx="330120" cy="44640"/>
          </a:xfrm>
          <a:custGeom>
            <a:avLst/>
            <a:gdLst/>
            <a:ahLst/>
            <a:rect l="l" t="t" r="r" b="b"/>
            <a:pathLst>
              <a:path w="919" h="125">
                <a:moveTo>
                  <a:pt x="10790" y="14511"/>
                </a:moveTo>
                <a:lnTo>
                  <a:pt x="10790" y="14511"/>
                </a:lnTo>
              </a:path>
              <a:path w="919" h="125">
                <a:moveTo>
                  <a:pt x="11286" y="14635"/>
                </a:moveTo>
                <a:cubicBezTo>
                  <a:pt x="11428" y="14610"/>
                  <a:pt x="11567" y="14578"/>
                  <a:pt x="11708" y="14560"/>
                </a:cubicBezTo>
              </a:path>
            </a:pathLst>
          </a:custGeom>
          <a:noFill/>
          <a:ln cap="rnd" w="34920">
            <a:solidFill>
              <a:srgbClr val="ff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8" name=""/>
          <p:cNvSpPr/>
          <p:nvPr/>
        </p:nvSpPr>
        <p:spPr>
          <a:xfrm>
            <a:off x="3625920" y="5126040"/>
            <a:ext cx="1160280" cy="330120"/>
          </a:xfrm>
          <a:custGeom>
            <a:avLst/>
            <a:gdLst/>
            <a:ahLst/>
            <a:rect l="l" t="t" r="r" b="b"/>
            <a:pathLst>
              <a:path w="3225" h="919">
                <a:moveTo>
                  <a:pt x="10443" y="14784"/>
                </a:moveTo>
                <a:cubicBezTo>
                  <a:pt x="10462" y="14839"/>
                  <a:pt x="10501" y="14745"/>
                  <a:pt x="10393" y="14709"/>
                </a:cubicBezTo>
                <a:cubicBezTo>
                  <a:pt x="10219" y="14651"/>
                  <a:pt x="9966" y="14976"/>
                  <a:pt x="10096" y="15131"/>
                </a:cubicBezTo>
                <a:cubicBezTo>
                  <a:pt x="10254" y="15318"/>
                  <a:pt x="10444" y="14973"/>
                  <a:pt x="10492" y="14908"/>
                </a:cubicBezTo>
              </a:path>
              <a:path w="3225" h="919">
                <a:moveTo>
                  <a:pt x="10368" y="14387"/>
                </a:moveTo>
                <a:cubicBezTo>
                  <a:pt x="10368" y="14515"/>
                  <a:pt x="10451" y="14710"/>
                  <a:pt x="10492" y="14833"/>
                </a:cubicBezTo>
                <a:cubicBezTo>
                  <a:pt x="10528" y="14923"/>
                  <a:pt x="10545" y="14928"/>
                  <a:pt x="10542" y="14982"/>
                </a:cubicBezTo>
              </a:path>
              <a:path w="3225" h="919">
                <a:moveTo>
                  <a:pt x="10716" y="14684"/>
                </a:moveTo>
                <a:cubicBezTo>
                  <a:pt x="10742" y="14784"/>
                  <a:pt x="10765" y="14878"/>
                  <a:pt x="10765" y="14982"/>
                </a:cubicBezTo>
              </a:path>
              <a:path w="3225" h="919">
                <a:moveTo>
                  <a:pt x="10691" y="14536"/>
                </a:moveTo>
                <a:cubicBezTo>
                  <a:pt x="10640" y="14536"/>
                  <a:pt x="10741" y="14523"/>
                  <a:pt x="10790" y="14511"/>
                </a:cubicBezTo>
              </a:path>
              <a:path w="3225" h="919">
                <a:moveTo>
                  <a:pt x="11137" y="14536"/>
                </a:moveTo>
                <a:cubicBezTo>
                  <a:pt x="11060" y="14571"/>
                  <a:pt x="11005" y="14603"/>
                  <a:pt x="10939" y="14660"/>
                </a:cubicBezTo>
                <a:cubicBezTo>
                  <a:pt x="11092" y="14710"/>
                  <a:pt x="11204" y="14697"/>
                  <a:pt x="11336" y="14808"/>
                </a:cubicBezTo>
                <a:cubicBezTo>
                  <a:pt x="11181" y="14963"/>
                  <a:pt x="11094" y="15031"/>
                  <a:pt x="11038" y="14808"/>
                </a:cubicBezTo>
              </a:path>
              <a:path w="3225" h="919">
                <a:moveTo>
                  <a:pt x="11410" y="14238"/>
                </a:moveTo>
                <a:cubicBezTo>
                  <a:pt x="11466" y="14444"/>
                  <a:pt x="11515" y="14671"/>
                  <a:pt x="11609" y="14858"/>
                </a:cubicBezTo>
              </a:path>
              <a:path w="3225" h="919">
                <a:moveTo>
                  <a:pt x="12055" y="14635"/>
                </a:moveTo>
                <a:cubicBezTo>
                  <a:pt x="11928" y="14507"/>
                  <a:pt x="11816" y="14561"/>
                  <a:pt x="11733" y="14734"/>
                </a:cubicBezTo>
                <a:cubicBezTo>
                  <a:pt x="11579" y="15057"/>
                  <a:pt x="11946" y="14838"/>
                  <a:pt x="12030" y="14759"/>
                </a:cubicBezTo>
                <a:cubicBezTo>
                  <a:pt x="12038" y="14734"/>
                  <a:pt x="12047" y="14709"/>
                  <a:pt x="12055" y="14684"/>
                </a:cubicBezTo>
                <a:cubicBezTo>
                  <a:pt x="11939" y="14684"/>
                  <a:pt x="12036" y="14823"/>
                  <a:pt x="12105" y="14833"/>
                </a:cubicBezTo>
                <a:cubicBezTo>
                  <a:pt x="12223" y="14850"/>
                  <a:pt x="12361" y="14545"/>
                  <a:pt x="12328" y="14660"/>
                </a:cubicBezTo>
                <a:cubicBezTo>
                  <a:pt x="12306" y="14736"/>
                  <a:pt x="12292" y="14785"/>
                  <a:pt x="12328" y="14833"/>
                </a:cubicBezTo>
                <a:cubicBezTo>
                  <a:pt x="12315" y="14753"/>
                  <a:pt x="12255" y="14581"/>
                  <a:pt x="12328" y="14511"/>
                </a:cubicBezTo>
                <a:cubicBezTo>
                  <a:pt x="12480" y="14365"/>
                  <a:pt x="12610" y="14702"/>
                  <a:pt x="12650" y="14784"/>
                </a:cubicBezTo>
              </a:path>
              <a:path w="3225" h="919">
                <a:moveTo>
                  <a:pt x="12874" y="14511"/>
                </a:moveTo>
                <a:cubicBezTo>
                  <a:pt x="12898" y="14511"/>
                  <a:pt x="12906" y="14511"/>
                  <a:pt x="12898" y="14486"/>
                </a:cubicBezTo>
                <a:cubicBezTo>
                  <a:pt x="12810" y="14351"/>
                  <a:pt x="12722" y="14536"/>
                  <a:pt x="12700" y="14635"/>
                </a:cubicBezTo>
                <a:cubicBezTo>
                  <a:pt x="12633" y="14937"/>
                  <a:pt x="12994" y="14691"/>
                  <a:pt x="13097" y="14635"/>
                </a:cubicBezTo>
              </a:path>
              <a:path w="3225" h="919">
                <a:moveTo>
                  <a:pt x="13097" y="14585"/>
                </a:moveTo>
                <a:cubicBezTo>
                  <a:pt x="13148" y="14564"/>
                  <a:pt x="13290" y="14522"/>
                  <a:pt x="13295" y="14486"/>
                </a:cubicBezTo>
                <a:cubicBezTo>
                  <a:pt x="13295" y="14469"/>
                  <a:pt x="13295" y="14453"/>
                  <a:pt x="13295" y="14436"/>
                </a:cubicBezTo>
                <a:cubicBezTo>
                  <a:pt x="13148" y="14372"/>
                  <a:pt x="13064" y="14419"/>
                  <a:pt x="13047" y="14610"/>
                </a:cubicBezTo>
                <a:cubicBezTo>
                  <a:pt x="13031" y="14794"/>
                  <a:pt x="13130" y="14767"/>
                  <a:pt x="13246" y="1475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081760" y="5037120"/>
            <a:ext cx="714240" cy="276120"/>
          </a:xfrm>
          <a:custGeom>
            <a:avLst/>
            <a:gdLst/>
            <a:ahLst/>
            <a:rect l="l" t="t" r="r" b="b"/>
            <a:pathLst>
              <a:path w="1985" h="770">
                <a:moveTo>
                  <a:pt x="14536" y="14188"/>
                </a:moveTo>
                <a:cubicBezTo>
                  <a:pt x="14611" y="14162"/>
                  <a:pt x="14504" y="14039"/>
                  <a:pt x="14461" y="14015"/>
                </a:cubicBezTo>
                <a:cubicBezTo>
                  <a:pt x="14189" y="13861"/>
                  <a:pt x="14258" y="14280"/>
                  <a:pt x="14288" y="14387"/>
                </a:cubicBezTo>
                <a:cubicBezTo>
                  <a:pt x="14339" y="14567"/>
                  <a:pt x="14401" y="14618"/>
                  <a:pt x="14461" y="14759"/>
                </a:cubicBezTo>
              </a:path>
              <a:path w="1985" h="770">
                <a:moveTo>
                  <a:pt x="14114" y="14560"/>
                </a:moveTo>
                <a:cubicBezTo>
                  <a:pt x="14309" y="14535"/>
                  <a:pt x="14565" y="14458"/>
                  <a:pt x="14759" y="14486"/>
                </a:cubicBezTo>
                <a:cubicBezTo>
                  <a:pt x="14798" y="14492"/>
                  <a:pt x="14802" y="14635"/>
                  <a:pt x="14808" y="14660"/>
                </a:cubicBezTo>
                <a:cubicBezTo>
                  <a:pt x="14808" y="14524"/>
                  <a:pt x="14782" y="14405"/>
                  <a:pt x="14932" y="14337"/>
                </a:cubicBezTo>
                <a:cubicBezTo>
                  <a:pt x="15028" y="14294"/>
                  <a:pt x="15115" y="14310"/>
                  <a:pt x="15205" y="14337"/>
                </a:cubicBezTo>
                <a:cubicBezTo>
                  <a:pt x="15160" y="14457"/>
                  <a:pt x="15125" y="14561"/>
                  <a:pt x="15106" y="14684"/>
                </a:cubicBezTo>
                <a:cubicBezTo>
                  <a:pt x="15225" y="14718"/>
                  <a:pt x="15447" y="14700"/>
                  <a:pt x="15379" y="14486"/>
                </a:cubicBezTo>
                <a:cubicBezTo>
                  <a:pt x="15311" y="14396"/>
                  <a:pt x="15296" y="14370"/>
                  <a:pt x="15230" y="14337"/>
                </a:cubicBezTo>
              </a:path>
              <a:path w="1985" h="770">
                <a:moveTo>
                  <a:pt x="15503" y="14436"/>
                </a:moveTo>
                <a:cubicBezTo>
                  <a:pt x="15511" y="14477"/>
                  <a:pt x="15520" y="14519"/>
                  <a:pt x="15528" y="14560"/>
                </a:cubicBezTo>
                <a:cubicBezTo>
                  <a:pt x="15570" y="14666"/>
                  <a:pt x="15519" y="14492"/>
                  <a:pt x="15553" y="14412"/>
                </a:cubicBezTo>
                <a:cubicBezTo>
                  <a:pt x="15641" y="14206"/>
                  <a:pt x="15743" y="14528"/>
                  <a:pt x="15776" y="14610"/>
                </a:cubicBezTo>
                <a:cubicBezTo>
                  <a:pt x="15751" y="14510"/>
                  <a:pt x="15788" y="14445"/>
                  <a:pt x="15825" y="14337"/>
                </a:cubicBezTo>
                <a:cubicBezTo>
                  <a:pt x="16078" y="14352"/>
                  <a:pt x="16047" y="14452"/>
                  <a:pt x="16098" y="14684"/>
                </a:cubicBezTo>
                <a:cubicBezTo>
                  <a:pt x="16098" y="14668"/>
                  <a:pt x="16098" y="14651"/>
                  <a:pt x="16098" y="1463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072120" y="5106960"/>
            <a:ext cx="723960" cy="376200"/>
          </a:xfrm>
          <a:custGeom>
            <a:avLst/>
            <a:gdLst/>
            <a:ahLst/>
            <a:rect l="l" t="t" r="r" b="b"/>
            <a:pathLst>
              <a:path w="2010" h="1043">
                <a:moveTo>
                  <a:pt x="16942" y="14610"/>
                </a:moveTo>
                <a:cubicBezTo>
                  <a:pt x="16922" y="14598"/>
                  <a:pt x="16843" y="14540"/>
                  <a:pt x="16867" y="14412"/>
                </a:cubicBezTo>
                <a:cubicBezTo>
                  <a:pt x="16896" y="14259"/>
                  <a:pt x="17191" y="14047"/>
                  <a:pt x="17239" y="14312"/>
                </a:cubicBezTo>
                <a:cubicBezTo>
                  <a:pt x="17267" y="14464"/>
                  <a:pt x="17184" y="14501"/>
                  <a:pt x="17140" y="14585"/>
                </a:cubicBezTo>
                <a:cubicBezTo>
                  <a:pt x="17351" y="14550"/>
                  <a:pt x="17584" y="14688"/>
                  <a:pt x="17611" y="14932"/>
                </a:cubicBezTo>
                <a:cubicBezTo>
                  <a:pt x="17650" y="15282"/>
                  <a:pt x="17244" y="15215"/>
                  <a:pt x="17090" y="15131"/>
                </a:cubicBezTo>
                <a:cubicBezTo>
                  <a:pt x="17164" y="14917"/>
                  <a:pt x="17189" y="14905"/>
                  <a:pt x="17388" y="14784"/>
                </a:cubicBezTo>
              </a:path>
              <a:path w="2010" h="1043">
                <a:moveTo>
                  <a:pt x="17537" y="14511"/>
                </a:moveTo>
                <a:cubicBezTo>
                  <a:pt x="17631" y="14451"/>
                  <a:pt x="17719" y="14428"/>
                  <a:pt x="17835" y="14412"/>
                </a:cubicBezTo>
                <a:cubicBezTo>
                  <a:pt x="17816" y="14355"/>
                  <a:pt x="17703" y="14163"/>
                  <a:pt x="17611" y="14238"/>
                </a:cubicBezTo>
                <a:cubicBezTo>
                  <a:pt x="17405" y="14407"/>
                  <a:pt x="17465" y="14710"/>
                  <a:pt x="17760" y="14660"/>
                </a:cubicBezTo>
                <a:cubicBezTo>
                  <a:pt x="17930" y="14587"/>
                  <a:pt x="17984" y="14565"/>
                  <a:pt x="18058" y="14461"/>
                </a:cubicBezTo>
              </a:path>
              <a:path w="2010" h="1043">
                <a:moveTo>
                  <a:pt x="18083" y="14337"/>
                </a:moveTo>
                <a:cubicBezTo>
                  <a:pt x="18083" y="14438"/>
                  <a:pt x="18089" y="14480"/>
                  <a:pt x="18132" y="14560"/>
                </a:cubicBezTo>
                <a:cubicBezTo>
                  <a:pt x="18120" y="14480"/>
                  <a:pt x="18070" y="14333"/>
                  <a:pt x="18182" y="14288"/>
                </a:cubicBezTo>
                <a:cubicBezTo>
                  <a:pt x="18339" y="14262"/>
                  <a:pt x="18396" y="14254"/>
                  <a:pt x="18504" y="14288"/>
                </a:cubicBezTo>
              </a:path>
              <a:path w="2010" h="1043">
                <a:moveTo>
                  <a:pt x="18728" y="14263"/>
                </a:moveTo>
                <a:cubicBezTo>
                  <a:pt x="18617" y="14263"/>
                  <a:pt x="18425" y="14428"/>
                  <a:pt x="18529" y="14585"/>
                </a:cubicBezTo>
                <a:cubicBezTo>
                  <a:pt x="18651" y="14768"/>
                  <a:pt x="18972" y="14575"/>
                  <a:pt x="18852" y="14387"/>
                </a:cubicBezTo>
                <a:cubicBezTo>
                  <a:pt x="18811" y="14354"/>
                  <a:pt x="18769" y="14321"/>
                  <a:pt x="18728" y="1428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626000" y="5384880"/>
            <a:ext cx="2232000" cy="330120"/>
          </a:xfrm>
          <a:custGeom>
            <a:avLst/>
            <a:gdLst/>
            <a:ahLst/>
            <a:rect l="l" t="t" r="r" b="b"/>
            <a:pathLst>
              <a:path w="6202" h="919">
                <a:moveTo>
                  <a:pt x="12849" y="15875"/>
                </a:moveTo>
                <a:lnTo>
                  <a:pt x="12849" y="15875"/>
                </a:lnTo>
              </a:path>
              <a:path w="6202" h="919">
                <a:moveTo>
                  <a:pt x="18554" y="15304"/>
                </a:moveTo>
                <a:cubicBezTo>
                  <a:pt x="18577" y="15421"/>
                  <a:pt x="18584" y="15454"/>
                  <a:pt x="18604" y="15528"/>
                </a:cubicBezTo>
              </a:path>
              <a:path w="6202" h="919">
                <a:moveTo>
                  <a:pt x="18455" y="15056"/>
                </a:moveTo>
                <a:cubicBezTo>
                  <a:pt x="18455" y="15048"/>
                  <a:pt x="18455" y="15040"/>
                  <a:pt x="18455" y="15032"/>
                </a:cubicBezTo>
              </a:path>
              <a:path w="6202" h="919">
                <a:moveTo>
                  <a:pt x="18455" y="15032"/>
                </a:moveTo>
                <a:lnTo>
                  <a:pt x="18455" y="15032"/>
                </a:lnTo>
              </a:path>
              <a:path w="6202" h="919">
                <a:moveTo>
                  <a:pt x="18678" y="14957"/>
                </a:moveTo>
                <a:cubicBezTo>
                  <a:pt x="18849" y="15052"/>
                  <a:pt x="18845" y="15264"/>
                  <a:pt x="18901" y="15453"/>
                </a:cubicBezTo>
                <a:cubicBezTo>
                  <a:pt x="18921" y="15494"/>
                  <a:pt x="18930" y="15521"/>
                  <a:pt x="18926" y="15478"/>
                </a:cubicBezTo>
              </a:path>
              <a:path w="6202" h="919">
                <a:moveTo>
                  <a:pt x="19025" y="15032"/>
                </a:moveTo>
                <a:cubicBezTo>
                  <a:pt x="19025" y="15004"/>
                  <a:pt x="19027" y="14998"/>
                  <a:pt x="19050" y="1503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4116240" y="5510160"/>
            <a:ext cx="1295640" cy="276120"/>
          </a:xfrm>
          <a:custGeom>
            <a:avLst/>
            <a:gdLst/>
            <a:ahLst/>
            <a:rect l="l" t="t" r="r" b="b"/>
            <a:pathLst>
              <a:path w="3598" h="770">
                <a:moveTo>
                  <a:pt x="11435" y="15677"/>
                </a:moveTo>
                <a:cubicBezTo>
                  <a:pt x="11576" y="15644"/>
                  <a:pt x="11717" y="15612"/>
                  <a:pt x="11857" y="15577"/>
                </a:cubicBezTo>
              </a:path>
              <a:path w="3598" h="770">
                <a:moveTo>
                  <a:pt x="12452" y="15528"/>
                </a:moveTo>
                <a:cubicBezTo>
                  <a:pt x="12460" y="15528"/>
                  <a:pt x="12469" y="15528"/>
                  <a:pt x="12477" y="15528"/>
                </a:cubicBezTo>
                <a:cubicBezTo>
                  <a:pt x="12443" y="15359"/>
                  <a:pt x="12303" y="15414"/>
                  <a:pt x="12204" y="15553"/>
                </a:cubicBezTo>
                <a:cubicBezTo>
                  <a:pt x="12118" y="15725"/>
                  <a:pt x="12074" y="15763"/>
                  <a:pt x="12154" y="15875"/>
                </a:cubicBezTo>
                <a:cubicBezTo>
                  <a:pt x="12379" y="15841"/>
                  <a:pt x="12495" y="15832"/>
                  <a:pt x="12477" y="15577"/>
                </a:cubicBezTo>
                <a:cubicBezTo>
                  <a:pt x="12494" y="15612"/>
                  <a:pt x="12637" y="15967"/>
                  <a:pt x="12725" y="15900"/>
                </a:cubicBezTo>
                <a:cubicBezTo>
                  <a:pt x="12756" y="15776"/>
                  <a:pt x="12772" y="15717"/>
                  <a:pt x="12799" y="15627"/>
                </a:cubicBezTo>
              </a:path>
              <a:path w="3598" h="770">
                <a:moveTo>
                  <a:pt x="12700" y="15304"/>
                </a:moveTo>
                <a:cubicBezTo>
                  <a:pt x="12746" y="15496"/>
                  <a:pt x="12789" y="15686"/>
                  <a:pt x="12849" y="15875"/>
                </a:cubicBezTo>
              </a:path>
              <a:path w="3598" h="770">
                <a:moveTo>
                  <a:pt x="12998" y="15528"/>
                </a:moveTo>
                <a:cubicBezTo>
                  <a:pt x="13048" y="15682"/>
                  <a:pt x="13038" y="15765"/>
                  <a:pt x="13171" y="15850"/>
                </a:cubicBezTo>
                <a:cubicBezTo>
                  <a:pt x="13291" y="15741"/>
                  <a:pt x="13296" y="15711"/>
                  <a:pt x="13320" y="15553"/>
                </a:cubicBezTo>
                <a:cubicBezTo>
                  <a:pt x="13337" y="15693"/>
                  <a:pt x="13395" y="15927"/>
                  <a:pt x="13593" y="15751"/>
                </a:cubicBezTo>
                <a:cubicBezTo>
                  <a:pt x="13783" y="15583"/>
                  <a:pt x="13592" y="15488"/>
                  <a:pt x="13444" y="15453"/>
                </a:cubicBezTo>
                <a:cubicBezTo>
                  <a:pt x="13436" y="15453"/>
                  <a:pt x="13427" y="15453"/>
                  <a:pt x="13419" y="15453"/>
                </a:cubicBezTo>
              </a:path>
              <a:path w="3598" h="770">
                <a:moveTo>
                  <a:pt x="13866" y="15404"/>
                </a:moveTo>
                <a:cubicBezTo>
                  <a:pt x="13710" y="15482"/>
                  <a:pt x="13701" y="15509"/>
                  <a:pt x="13643" y="15677"/>
                </a:cubicBezTo>
                <a:cubicBezTo>
                  <a:pt x="13772" y="15737"/>
                  <a:pt x="13968" y="15748"/>
                  <a:pt x="13990" y="15528"/>
                </a:cubicBezTo>
                <a:cubicBezTo>
                  <a:pt x="13982" y="15520"/>
                  <a:pt x="13973" y="15511"/>
                  <a:pt x="13965" y="15503"/>
                </a:cubicBezTo>
                <a:cubicBezTo>
                  <a:pt x="14009" y="15617"/>
                  <a:pt x="14188" y="15866"/>
                  <a:pt x="14337" y="15652"/>
                </a:cubicBezTo>
                <a:cubicBezTo>
                  <a:pt x="14337" y="15574"/>
                  <a:pt x="14352" y="15556"/>
                  <a:pt x="14312" y="15528"/>
                </a:cubicBezTo>
                <a:cubicBezTo>
                  <a:pt x="14364" y="15602"/>
                  <a:pt x="14568" y="15834"/>
                  <a:pt x="14660" y="15652"/>
                </a:cubicBezTo>
                <a:cubicBezTo>
                  <a:pt x="14660" y="15611"/>
                  <a:pt x="14660" y="15569"/>
                  <a:pt x="14660" y="15528"/>
                </a:cubicBezTo>
              </a:path>
              <a:path w="3598" h="770">
                <a:moveTo>
                  <a:pt x="14585" y="15404"/>
                </a:moveTo>
                <a:cubicBezTo>
                  <a:pt x="14610" y="15576"/>
                  <a:pt x="14632" y="15752"/>
                  <a:pt x="14660" y="15925"/>
                </a:cubicBezTo>
                <a:cubicBezTo>
                  <a:pt x="14678" y="16019"/>
                  <a:pt x="14664" y="16039"/>
                  <a:pt x="14709" y="16073"/>
                </a:cubicBezTo>
              </a:path>
              <a:path w="3598" h="770">
                <a:moveTo>
                  <a:pt x="14908" y="15329"/>
                </a:moveTo>
                <a:cubicBezTo>
                  <a:pt x="14800" y="15370"/>
                  <a:pt x="14756" y="15386"/>
                  <a:pt x="14684" y="15478"/>
                </a:cubicBezTo>
                <a:cubicBezTo>
                  <a:pt x="14864" y="15514"/>
                  <a:pt x="14939" y="15537"/>
                  <a:pt x="15032" y="15677"/>
                </a:cubicBezTo>
                <a:cubicBezTo>
                  <a:pt x="14941" y="15767"/>
                  <a:pt x="14893" y="15792"/>
                  <a:pt x="14784" y="1575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581800" y="5589720"/>
            <a:ext cx="285480" cy="107640"/>
          </a:xfrm>
          <a:custGeom>
            <a:avLst/>
            <a:gdLst/>
            <a:ahLst/>
            <a:rect l="l" t="t" r="r" b="b"/>
            <a:pathLst>
              <a:path w="795" h="298">
                <a:moveTo>
                  <a:pt x="15900" y="15577"/>
                </a:moveTo>
                <a:cubicBezTo>
                  <a:pt x="15892" y="15585"/>
                  <a:pt x="15883" y="15594"/>
                  <a:pt x="15875" y="15602"/>
                </a:cubicBezTo>
                <a:cubicBezTo>
                  <a:pt x="15893" y="15656"/>
                  <a:pt x="15916" y="15609"/>
                  <a:pt x="15875" y="15577"/>
                </a:cubicBezTo>
                <a:cubicBezTo>
                  <a:pt x="15693" y="15436"/>
                  <a:pt x="15602" y="15616"/>
                  <a:pt x="15503" y="15751"/>
                </a:cubicBezTo>
                <a:cubicBezTo>
                  <a:pt x="15695" y="15847"/>
                  <a:pt x="15780" y="15821"/>
                  <a:pt x="15900" y="15627"/>
                </a:cubicBezTo>
                <a:cubicBezTo>
                  <a:pt x="15962" y="15853"/>
                  <a:pt x="16129" y="15726"/>
                  <a:pt x="16297" y="1565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153120" y="5402160"/>
            <a:ext cx="1071720" cy="376200"/>
          </a:xfrm>
          <a:custGeom>
            <a:avLst/>
            <a:gdLst/>
            <a:ahLst/>
            <a:rect l="l" t="t" r="r" b="b"/>
            <a:pathLst>
              <a:path w="2978" h="1043">
                <a:moveTo>
                  <a:pt x="17190" y="15553"/>
                </a:moveTo>
                <a:cubicBezTo>
                  <a:pt x="17207" y="15689"/>
                  <a:pt x="17291" y="16026"/>
                  <a:pt x="17239" y="15999"/>
                </a:cubicBezTo>
                <a:cubicBezTo>
                  <a:pt x="17166" y="15744"/>
                  <a:pt x="17165" y="15658"/>
                  <a:pt x="17239" y="15404"/>
                </a:cubicBezTo>
                <a:cubicBezTo>
                  <a:pt x="17377" y="15467"/>
                  <a:pt x="17672" y="15730"/>
                  <a:pt x="17314" y="15776"/>
                </a:cubicBezTo>
                <a:cubicBezTo>
                  <a:pt x="17090" y="15805"/>
                  <a:pt x="17116" y="15681"/>
                  <a:pt x="17140" y="15553"/>
                </a:cubicBezTo>
              </a:path>
              <a:path w="2978" h="1043">
                <a:moveTo>
                  <a:pt x="17735" y="15304"/>
                </a:moveTo>
                <a:cubicBezTo>
                  <a:pt x="17642" y="15446"/>
                  <a:pt x="17607" y="15478"/>
                  <a:pt x="17636" y="15627"/>
                </a:cubicBezTo>
                <a:cubicBezTo>
                  <a:pt x="17724" y="15627"/>
                  <a:pt x="18152" y="15560"/>
                  <a:pt x="17909" y="15404"/>
                </a:cubicBezTo>
                <a:cubicBezTo>
                  <a:pt x="17778" y="15360"/>
                  <a:pt x="17748" y="15344"/>
                  <a:pt x="17661" y="15354"/>
                </a:cubicBezTo>
              </a:path>
              <a:path w="2978" h="1043">
                <a:moveTo>
                  <a:pt x="18157" y="15180"/>
                </a:moveTo>
                <a:cubicBezTo>
                  <a:pt x="18098" y="15220"/>
                  <a:pt x="18086" y="15224"/>
                  <a:pt x="18058" y="15255"/>
                </a:cubicBezTo>
                <a:cubicBezTo>
                  <a:pt x="18136" y="15298"/>
                  <a:pt x="18435" y="15396"/>
                  <a:pt x="18355" y="15528"/>
                </a:cubicBezTo>
                <a:cubicBezTo>
                  <a:pt x="18281" y="15651"/>
                  <a:pt x="18094" y="15556"/>
                  <a:pt x="18008" y="15528"/>
                </a:cubicBezTo>
              </a:path>
              <a:path w="2978" h="1043">
                <a:moveTo>
                  <a:pt x="18554" y="15230"/>
                </a:moveTo>
                <a:cubicBezTo>
                  <a:pt x="18730" y="15223"/>
                  <a:pt x="18900" y="15193"/>
                  <a:pt x="19075" y="15180"/>
                </a:cubicBezTo>
                <a:cubicBezTo>
                  <a:pt x="19108" y="15178"/>
                  <a:pt x="19210" y="15398"/>
                  <a:pt x="19224" y="15429"/>
                </a:cubicBezTo>
                <a:cubicBezTo>
                  <a:pt x="19243" y="15486"/>
                  <a:pt x="19251" y="15529"/>
                  <a:pt x="19248" y="15478"/>
                </a:cubicBezTo>
              </a:path>
              <a:path w="2978" h="1043">
                <a:moveTo>
                  <a:pt x="19298" y="15180"/>
                </a:moveTo>
                <a:cubicBezTo>
                  <a:pt x="19374" y="15218"/>
                  <a:pt x="19402" y="15359"/>
                  <a:pt x="19472" y="15429"/>
                </a:cubicBezTo>
                <a:cubicBezTo>
                  <a:pt x="19531" y="15468"/>
                  <a:pt x="19543" y="15472"/>
                  <a:pt x="19571" y="15503"/>
                </a:cubicBezTo>
                <a:cubicBezTo>
                  <a:pt x="19571" y="15367"/>
                  <a:pt x="19561" y="15234"/>
                  <a:pt x="19596" y="15106"/>
                </a:cubicBezTo>
              </a:path>
              <a:path w="2978" h="1043">
                <a:moveTo>
                  <a:pt x="19769" y="15180"/>
                </a:moveTo>
                <a:cubicBezTo>
                  <a:pt x="19905" y="15166"/>
                  <a:pt x="20006" y="15177"/>
                  <a:pt x="20042" y="15032"/>
                </a:cubicBezTo>
                <a:cubicBezTo>
                  <a:pt x="19899" y="15008"/>
                  <a:pt x="19779" y="15065"/>
                  <a:pt x="19769" y="15255"/>
                </a:cubicBezTo>
                <a:cubicBezTo>
                  <a:pt x="19755" y="15502"/>
                  <a:pt x="19941" y="15408"/>
                  <a:pt x="20067" y="1537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439040" y="5303880"/>
            <a:ext cx="1204920" cy="312840"/>
          </a:xfrm>
          <a:custGeom>
            <a:avLst/>
            <a:gdLst/>
            <a:ahLst/>
            <a:rect l="l" t="t" r="r" b="b"/>
            <a:pathLst>
              <a:path w="3350" h="869">
                <a:moveTo>
                  <a:pt x="20737" y="15180"/>
                </a:moveTo>
                <a:cubicBezTo>
                  <a:pt x="20707" y="15323"/>
                  <a:pt x="20687" y="15455"/>
                  <a:pt x="20687" y="15602"/>
                </a:cubicBezTo>
                <a:cubicBezTo>
                  <a:pt x="20671" y="15507"/>
                  <a:pt x="20613" y="15342"/>
                  <a:pt x="20687" y="15255"/>
                </a:cubicBezTo>
                <a:cubicBezTo>
                  <a:pt x="20883" y="15024"/>
                  <a:pt x="21029" y="15315"/>
                  <a:pt x="21059" y="15478"/>
                </a:cubicBezTo>
                <a:cubicBezTo>
                  <a:pt x="21059" y="15540"/>
                  <a:pt x="21069" y="15555"/>
                  <a:pt x="21034" y="15577"/>
                </a:cubicBezTo>
              </a:path>
              <a:path w="3350" h="869">
                <a:moveTo>
                  <a:pt x="21183" y="15156"/>
                </a:moveTo>
                <a:cubicBezTo>
                  <a:pt x="21192" y="15210"/>
                  <a:pt x="21194" y="15574"/>
                  <a:pt x="21332" y="15528"/>
                </a:cubicBezTo>
                <a:cubicBezTo>
                  <a:pt x="21437" y="15449"/>
                  <a:pt x="21473" y="15418"/>
                  <a:pt x="21506" y="15329"/>
                </a:cubicBezTo>
                <a:cubicBezTo>
                  <a:pt x="21506" y="15153"/>
                  <a:pt x="21524" y="15419"/>
                  <a:pt x="21555" y="15478"/>
                </a:cubicBezTo>
                <a:cubicBezTo>
                  <a:pt x="21653" y="15666"/>
                  <a:pt x="21773" y="15234"/>
                  <a:pt x="21779" y="15205"/>
                </a:cubicBezTo>
                <a:cubicBezTo>
                  <a:pt x="21779" y="15170"/>
                  <a:pt x="21774" y="15171"/>
                  <a:pt x="21754" y="15230"/>
                </a:cubicBezTo>
                <a:cubicBezTo>
                  <a:pt x="21754" y="15553"/>
                  <a:pt x="21719" y="15276"/>
                  <a:pt x="21803" y="15180"/>
                </a:cubicBezTo>
                <a:cubicBezTo>
                  <a:pt x="21943" y="15021"/>
                  <a:pt x="22032" y="15364"/>
                  <a:pt x="22051" y="15429"/>
                </a:cubicBezTo>
                <a:cubicBezTo>
                  <a:pt x="22043" y="15429"/>
                  <a:pt x="22035" y="15429"/>
                  <a:pt x="22027" y="15429"/>
                </a:cubicBezTo>
                <a:cubicBezTo>
                  <a:pt x="22027" y="15257"/>
                  <a:pt x="22059" y="15198"/>
                  <a:pt x="22175" y="15081"/>
                </a:cubicBezTo>
                <a:cubicBezTo>
                  <a:pt x="22268" y="15181"/>
                  <a:pt x="22306" y="15558"/>
                  <a:pt x="22349" y="15429"/>
                </a:cubicBezTo>
                <a:cubicBezTo>
                  <a:pt x="22349" y="15412"/>
                  <a:pt x="22349" y="15396"/>
                  <a:pt x="22349" y="15379"/>
                </a:cubicBezTo>
              </a:path>
              <a:path w="3350" h="869">
                <a:moveTo>
                  <a:pt x="22374" y="14734"/>
                </a:moveTo>
                <a:cubicBezTo>
                  <a:pt x="22392" y="14948"/>
                  <a:pt x="22418" y="15174"/>
                  <a:pt x="22473" y="15379"/>
                </a:cubicBezTo>
                <a:cubicBezTo>
                  <a:pt x="22473" y="15280"/>
                  <a:pt x="22536" y="15088"/>
                  <a:pt x="22622" y="15032"/>
                </a:cubicBezTo>
                <a:cubicBezTo>
                  <a:pt x="22781" y="14928"/>
                  <a:pt x="22928" y="15270"/>
                  <a:pt x="22771" y="15379"/>
                </a:cubicBezTo>
                <a:cubicBezTo>
                  <a:pt x="22564" y="15524"/>
                  <a:pt x="22518" y="15296"/>
                  <a:pt x="22572" y="15180"/>
                </a:cubicBezTo>
              </a:path>
              <a:path w="3350" h="869">
                <a:moveTo>
                  <a:pt x="22944" y="15081"/>
                </a:moveTo>
                <a:cubicBezTo>
                  <a:pt x="23018" y="15058"/>
                  <a:pt x="23155" y="15043"/>
                  <a:pt x="23192" y="14957"/>
                </a:cubicBezTo>
                <a:cubicBezTo>
                  <a:pt x="23192" y="14949"/>
                  <a:pt x="23192" y="14940"/>
                  <a:pt x="23192" y="14932"/>
                </a:cubicBezTo>
                <a:cubicBezTo>
                  <a:pt x="23008" y="14887"/>
                  <a:pt x="22926" y="14997"/>
                  <a:pt x="22944" y="15205"/>
                </a:cubicBezTo>
                <a:cubicBezTo>
                  <a:pt x="22972" y="15523"/>
                  <a:pt x="23319" y="15158"/>
                  <a:pt x="23391" y="15106"/>
                </a:cubicBezTo>
                <a:cubicBezTo>
                  <a:pt x="23497" y="15028"/>
                  <a:pt x="23407" y="15174"/>
                  <a:pt x="23391" y="15205"/>
                </a:cubicBezTo>
                <a:cubicBezTo>
                  <a:pt x="23495" y="15067"/>
                  <a:pt x="23485" y="14993"/>
                  <a:pt x="23664" y="14883"/>
                </a:cubicBezTo>
                <a:cubicBezTo>
                  <a:pt x="23820" y="14787"/>
                  <a:pt x="23863" y="14804"/>
                  <a:pt x="24011" y="1485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ive:  Students will compare integers and absolute values on a number line and find distance between points.</a:t>
            </a:r>
            <a:endParaRPr b="0" lang="en-US" sz="1800" spc="-1" strike="noStrike">
              <a:solidFill>
                <a:srgbClr val="000000"/>
              </a:solidFill>
              <a:latin typeface="Arial"/>
            </a:endParaRPr>
          </a:p>
        </p:txBody>
      </p:sp>
      <p:sp>
        <p:nvSpPr>
          <p:cNvPr id="87" name="PlaceHolder 2"/>
          <p:cNvSpPr>
            <a:spLocks noGrp="1"/>
          </p:cNvSpPr>
          <p:nvPr>
            <p:ph/>
          </p:nvPr>
        </p:nvSpPr>
        <p:spPr>
          <a:xfrm>
            <a:off x="456840" y="1371240"/>
            <a:ext cx="7924680" cy="475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compare two numbers, we are basically comparing their positions on a number lin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number line on the line below, and plot the following numbers:  -3, 8, -8</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88" name=""/>
              <p:cNvSpPr txBox="1"/>
              <p:nvPr/>
            </p:nvSpPr>
            <p:spPr>
              <a:xfrm>
                <a:off x="6415200" y="3384720"/>
                <a:ext cx="504720" cy="954000"/>
              </a:xfrm>
              <a:prstGeom prst="rect">
                <a:avLst/>
              </a:prstGeom>
            </p:spPr>
            <p:txBody>
              <a:bodyPr/>
              <a:p>
                <a14:m>
                  <m:oMath xmlns:m="http://schemas.openxmlformats.org/officeDocument/2006/math"/>
                </a14:m>
              </a:p>
            </p:txBody>
          </p:sp>
        </mc:Choice>
        <mc:Fallback/>
      </mc:AlternateContent>
      <p:sp>
        <p:nvSpPr>
          <p:cNvPr id="89" name=""/>
          <p:cNvSpPr/>
          <p:nvPr/>
        </p:nvSpPr>
        <p:spPr>
          <a:xfrm>
            <a:off x="445320" y="4687920"/>
            <a:ext cx="721800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Which number is the smallest?  How do you know?</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number is the largest?  How do you know?</a:t>
            </a:r>
            <a:endParaRPr b="0" lang="en-US" sz="2400" spc="-1" strike="noStrike">
              <a:solidFill>
                <a:srgbClr val="000000"/>
              </a:solidFill>
              <a:latin typeface="Arial"/>
            </a:endParaRPr>
          </a:p>
        </p:txBody>
      </p:sp>
      <p:sp>
        <p:nvSpPr>
          <p:cNvPr id="90" name=""/>
          <p:cNvSpPr/>
          <p:nvPr/>
        </p:nvSpPr>
        <p:spPr>
          <a:xfrm>
            <a:off x="838080" y="3429000"/>
            <a:ext cx="7086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197240" y="3357720"/>
            <a:ext cx="9720" cy="142560"/>
          </a:xfrm>
          <a:custGeom>
            <a:avLst/>
            <a:gdLst/>
            <a:ahLst/>
            <a:rect l="l" t="t" r="r" b="b"/>
            <a:pathLst>
              <a:path w="26" h="397">
                <a:moveTo>
                  <a:pt x="11683" y="9401"/>
                </a:moveTo>
                <a:cubicBezTo>
                  <a:pt x="11683" y="9357"/>
                  <a:pt x="11685" y="9362"/>
                  <a:pt x="11658" y="9327"/>
                </a:cubicBezTo>
                <a:cubicBezTo>
                  <a:pt x="11658" y="9459"/>
                  <a:pt x="11658" y="9591"/>
                  <a:pt x="11658" y="972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160880" y="3660840"/>
            <a:ext cx="144360" cy="162000"/>
          </a:xfrm>
          <a:custGeom>
            <a:avLst/>
            <a:gdLst/>
            <a:ahLst/>
            <a:rect l="l" t="t" r="r" b="b"/>
            <a:pathLst>
              <a:path w="398" h="447">
                <a:moveTo>
                  <a:pt x="11683" y="10220"/>
                </a:moveTo>
                <a:cubicBezTo>
                  <a:pt x="11667" y="10266"/>
                  <a:pt x="11610" y="10346"/>
                  <a:pt x="11584" y="10418"/>
                </a:cubicBezTo>
                <a:cubicBezTo>
                  <a:pt x="11547" y="10522"/>
                  <a:pt x="11607" y="10616"/>
                  <a:pt x="11733" y="10616"/>
                </a:cubicBezTo>
                <a:cubicBezTo>
                  <a:pt x="11867" y="10616"/>
                  <a:pt x="11939" y="10443"/>
                  <a:pt x="11956" y="10344"/>
                </a:cubicBezTo>
                <a:cubicBezTo>
                  <a:pt x="11967" y="10277"/>
                  <a:pt x="11900" y="10240"/>
                  <a:pt x="11857" y="10220"/>
                </a:cubicBezTo>
                <a:cubicBezTo>
                  <a:pt x="11800" y="10193"/>
                  <a:pt x="11768" y="10141"/>
                  <a:pt x="11733" y="1019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133800" y="3375000"/>
            <a:ext cx="233280" cy="403200"/>
          </a:xfrm>
          <a:custGeom>
            <a:avLst/>
            <a:gdLst/>
            <a:ahLst/>
            <a:rect l="l" t="t" r="r" b="b"/>
            <a:pathLst>
              <a:path w="646" h="1117">
                <a:moveTo>
                  <a:pt x="8830" y="9376"/>
                </a:moveTo>
                <a:cubicBezTo>
                  <a:pt x="8858" y="9488"/>
                  <a:pt x="8830" y="9663"/>
                  <a:pt x="8830" y="9798"/>
                </a:cubicBezTo>
                <a:cubicBezTo>
                  <a:pt x="8830" y="9839"/>
                  <a:pt x="8822" y="9855"/>
                  <a:pt x="8855" y="9847"/>
                </a:cubicBezTo>
              </a:path>
              <a:path w="646" h="1117">
                <a:moveTo>
                  <a:pt x="8706" y="10368"/>
                </a:moveTo>
                <a:cubicBezTo>
                  <a:pt x="8757" y="10360"/>
                  <a:pt x="8803" y="10344"/>
                  <a:pt x="8855" y="10344"/>
                </a:cubicBezTo>
              </a:path>
              <a:path w="646" h="1117">
                <a:moveTo>
                  <a:pt x="9004" y="10170"/>
                </a:moveTo>
                <a:cubicBezTo>
                  <a:pt x="9030" y="10153"/>
                  <a:pt x="9193" y="10062"/>
                  <a:pt x="9227" y="10120"/>
                </a:cubicBezTo>
                <a:cubicBezTo>
                  <a:pt x="9257" y="10171"/>
                  <a:pt x="9181" y="10260"/>
                  <a:pt x="9153" y="10294"/>
                </a:cubicBezTo>
                <a:cubicBezTo>
                  <a:pt x="9186" y="10283"/>
                  <a:pt x="9375" y="10246"/>
                  <a:pt x="9351" y="10344"/>
                </a:cubicBezTo>
                <a:cubicBezTo>
                  <a:pt x="9312" y="10501"/>
                  <a:pt x="9181" y="10457"/>
                  <a:pt x="9128" y="10468"/>
                </a:cubicBezTo>
                <a:cubicBezTo>
                  <a:pt x="9120" y="10476"/>
                  <a:pt x="9111" y="10484"/>
                  <a:pt x="9103" y="1049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581120" y="3384720"/>
            <a:ext cx="17640" cy="152280"/>
          </a:xfrm>
          <a:custGeom>
            <a:avLst/>
            <a:gdLst/>
            <a:ahLst/>
            <a:rect l="l" t="t" r="r" b="b"/>
            <a:pathLst>
              <a:path w="51" h="423">
                <a:moveTo>
                  <a:pt x="4415" y="9475"/>
                </a:moveTo>
                <a:cubicBezTo>
                  <a:pt x="4395" y="9449"/>
                  <a:pt x="4390" y="9381"/>
                  <a:pt x="4390" y="9426"/>
                </a:cubicBezTo>
                <a:cubicBezTo>
                  <a:pt x="4390" y="9549"/>
                  <a:pt x="4423" y="9677"/>
                  <a:pt x="4440" y="9798"/>
                </a:cubicBezTo>
                <a:cubicBezTo>
                  <a:pt x="4440" y="9806"/>
                  <a:pt x="4440" y="9815"/>
                  <a:pt x="4440" y="982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643040" y="3660840"/>
            <a:ext cx="71640" cy="152280"/>
          </a:xfrm>
          <a:custGeom>
            <a:avLst/>
            <a:gdLst/>
            <a:ahLst/>
            <a:rect l="l" t="t" r="r" b="b"/>
            <a:pathLst>
              <a:path w="199" h="423">
                <a:moveTo>
                  <a:pt x="4762" y="10195"/>
                </a:moveTo>
                <a:cubicBezTo>
                  <a:pt x="4682" y="10213"/>
                  <a:pt x="4636" y="10246"/>
                  <a:pt x="4564" y="10294"/>
                </a:cubicBezTo>
                <a:cubicBezTo>
                  <a:pt x="4598" y="10362"/>
                  <a:pt x="4705" y="10374"/>
                  <a:pt x="4738" y="10468"/>
                </a:cubicBezTo>
                <a:cubicBezTo>
                  <a:pt x="4738" y="10541"/>
                  <a:pt x="4739" y="10565"/>
                  <a:pt x="4688" y="10592"/>
                </a:cubicBezTo>
                <a:cubicBezTo>
                  <a:pt x="4608" y="10552"/>
                  <a:pt x="4624" y="10427"/>
                  <a:pt x="4663" y="10319"/>
                </a:cubicBezTo>
                <a:cubicBezTo>
                  <a:pt x="4705" y="10236"/>
                  <a:pt x="4713" y="10220"/>
                  <a:pt x="4738" y="1017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500120" y="3724200"/>
            <a:ext cx="71640" cy="17640"/>
          </a:xfrm>
          <a:custGeom>
            <a:avLst/>
            <a:gdLst/>
            <a:ahLst/>
            <a:rect l="l" t="t" r="r" b="b"/>
            <a:pathLst>
              <a:path w="200" h="50">
                <a:moveTo>
                  <a:pt x="4167" y="10393"/>
                </a:moveTo>
                <a:cubicBezTo>
                  <a:pt x="4251" y="10356"/>
                  <a:pt x="4283" y="10334"/>
                  <a:pt x="4366" y="10368"/>
                </a:cubicBezTo>
              </a:path>
            </a:pathLst>
          </a:custGeom>
          <a:noFill/>
          <a:ln cap="rnd" w="349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 name=""/>
          <p:cNvSpPr/>
          <p:nvPr/>
        </p:nvSpPr>
        <p:spPr>
          <a:xfrm>
            <a:off x="6527880" y="3375000"/>
            <a:ext cx="27000" cy="90360"/>
          </a:xfrm>
          <a:custGeom>
            <a:avLst/>
            <a:gdLst/>
            <a:ahLst/>
            <a:rect l="l" t="t" r="r" b="b"/>
            <a:pathLst>
              <a:path w="76" h="249">
                <a:moveTo>
                  <a:pt x="18132" y="9376"/>
                </a:moveTo>
                <a:cubicBezTo>
                  <a:pt x="18147" y="9450"/>
                  <a:pt x="18187" y="9534"/>
                  <a:pt x="18207" y="9599"/>
                </a:cubicBezTo>
                <a:cubicBezTo>
                  <a:pt x="18207" y="9607"/>
                  <a:pt x="18207" y="9616"/>
                  <a:pt x="18207" y="9624"/>
                </a:cubicBezTo>
              </a:path>
            </a:pathLst>
          </a:custGeom>
          <a:noFill/>
          <a:ln cap="rnd" w="34920">
            <a:solidFill>
              <a:srgbClr val="ff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8" name=""/>
          <p:cNvSpPr/>
          <p:nvPr/>
        </p:nvSpPr>
        <p:spPr>
          <a:xfrm>
            <a:off x="6473880" y="3679920"/>
            <a:ext cx="108000" cy="125280"/>
          </a:xfrm>
          <a:custGeom>
            <a:avLst/>
            <a:gdLst/>
            <a:ahLst/>
            <a:rect l="l" t="t" r="r" b="b"/>
            <a:pathLst>
              <a:path w="299" h="348">
                <a:moveTo>
                  <a:pt x="18256" y="10269"/>
                </a:moveTo>
                <a:cubicBezTo>
                  <a:pt x="18332" y="10231"/>
                  <a:pt x="18103" y="10221"/>
                  <a:pt x="18083" y="10220"/>
                </a:cubicBezTo>
                <a:cubicBezTo>
                  <a:pt x="18058" y="10220"/>
                  <a:pt x="18033" y="10220"/>
                  <a:pt x="18008" y="10220"/>
                </a:cubicBezTo>
                <a:cubicBezTo>
                  <a:pt x="17936" y="10336"/>
                  <a:pt x="18096" y="10385"/>
                  <a:pt x="18182" y="10443"/>
                </a:cubicBezTo>
                <a:cubicBezTo>
                  <a:pt x="18256" y="10492"/>
                  <a:pt x="18285" y="10484"/>
                  <a:pt x="18256" y="10542"/>
                </a:cubicBezTo>
                <a:cubicBezTo>
                  <a:pt x="18211" y="10549"/>
                  <a:pt x="17980" y="10573"/>
                  <a:pt x="18058" y="10443"/>
                </a:cubicBezTo>
                <a:cubicBezTo>
                  <a:pt x="18112" y="10354"/>
                  <a:pt x="18219" y="10337"/>
                  <a:pt x="18256" y="1024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2670120" y="5099040"/>
            <a:ext cx="347760" cy="214200"/>
          </a:xfrm>
          <a:custGeom>
            <a:avLst/>
            <a:gdLst/>
            <a:ahLst/>
            <a:rect l="l" t="t" r="r" b="b"/>
            <a:pathLst>
              <a:path w="968" h="597">
                <a:moveTo>
                  <a:pt x="7417" y="14536"/>
                </a:moveTo>
                <a:cubicBezTo>
                  <a:pt x="7536" y="14489"/>
                  <a:pt x="7659" y="14442"/>
                  <a:pt x="7789" y="14436"/>
                </a:cubicBezTo>
                <a:cubicBezTo>
                  <a:pt x="7814" y="14436"/>
                  <a:pt x="7838" y="14436"/>
                  <a:pt x="7863" y="14436"/>
                </a:cubicBezTo>
              </a:path>
              <a:path w="968" h="597">
                <a:moveTo>
                  <a:pt x="8260" y="14163"/>
                </a:moveTo>
                <a:cubicBezTo>
                  <a:pt x="8128" y="14207"/>
                  <a:pt x="8114" y="14197"/>
                  <a:pt x="8037" y="14312"/>
                </a:cubicBezTo>
                <a:cubicBezTo>
                  <a:pt x="8207" y="14451"/>
                  <a:pt x="8334" y="14494"/>
                  <a:pt x="8384" y="14709"/>
                </a:cubicBezTo>
                <a:cubicBezTo>
                  <a:pt x="8203" y="14774"/>
                  <a:pt x="8070" y="14713"/>
                  <a:pt x="8186" y="14486"/>
                </a:cubicBezTo>
                <a:cubicBezTo>
                  <a:pt x="8211" y="14437"/>
                  <a:pt x="8404" y="14260"/>
                  <a:pt x="8359" y="1423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554800" y="5153040"/>
            <a:ext cx="1704960" cy="187200"/>
          </a:xfrm>
          <a:custGeom>
            <a:avLst/>
            <a:gdLst/>
            <a:ahLst/>
            <a:rect l="l" t="t" r="r" b="b"/>
            <a:pathLst>
              <a:path w="4738" h="522">
                <a:moveTo>
                  <a:pt x="15528" y="14312"/>
                </a:moveTo>
                <a:cubicBezTo>
                  <a:pt x="15582" y="14486"/>
                  <a:pt x="15632" y="14656"/>
                  <a:pt x="15677" y="14833"/>
                </a:cubicBezTo>
              </a:path>
              <a:path w="4738" h="522">
                <a:moveTo>
                  <a:pt x="15429" y="14660"/>
                </a:moveTo>
                <a:cubicBezTo>
                  <a:pt x="15552" y="14667"/>
                  <a:pt x="15984" y="14757"/>
                  <a:pt x="15974" y="14536"/>
                </a:cubicBezTo>
                <a:cubicBezTo>
                  <a:pt x="15958" y="14486"/>
                  <a:pt x="15941" y="14437"/>
                  <a:pt x="15925" y="14387"/>
                </a:cubicBezTo>
              </a:path>
              <a:path w="4738" h="522">
                <a:moveTo>
                  <a:pt x="17016" y="14560"/>
                </a:moveTo>
                <a:cubicBezTo>
                  <a:pt x="17209" y="14512"/>
                  <a:pt x="17271" y="14498"/>
                  <a:pt x="17388" y="14436"/>
                </a:cubicBezTo>
              </a:path>
              <a:path w="4738" h="522">
                <a:moveTo>
                  <a:pt x="17388" y="14436"/>
                </a:moveTo>
                <a:lnTo>
                  <a:pt x="17388" y="14436"/>
                </a:lnTo>
              </a:path>
              <a:path w="4738" h="522">
                <a:moveTo>
                  <a:pt x="19149" y="14461"/>
                </a:moveTo>
                <a:cubicBezTo>
                  <a:pt x="19378" y="14476"/>
                  <a:pt x="19502" y="14459"/>
                  <a:pt x="19720" y="14387"/>
                </a:cubicBezTo>
              </a:path>
              <a:path w="4738" h="522">
                <a:moveTo>
                  <a:pt x="19496" y="14412"/>
                </a:moveTo>
                <a:cubicBezTo>
                  <a:pt x="19720" y="14379"/>
                  <a:pt x="19941" y="14333"/>
                  <a:pt x="20166" y="1431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081760" y="5116680"/>
            <a:ext cx="1125360" cy="268200"/>
          </a:xfrm>
          <a:custGeom>
            <a:avLst/>
            <a:gdLst/>
            <a:ahLst/>
            <a:rect l="l" t="t" r="r" b="b"/>
            <a:pathLst>
              <a:path w="3126" h="745">
                <a:moveTo>
                  <a:pt x="14412" y="14387"/>
                </a:moveTo>
                <a:cubicBezTo>
                  <a:pt x="14464" y="14297"/>
                  <a:pt x="14385" y="14253"/>
                  <a:pt x="14288" y="14238"/>
                </a:cubicBezTo>
                <a:cubicBezTo>
                  <a:pt x="14255" y="14238"/>
                  <a:pt x="14221" y="14238"/>
                  <a:pt x="14188" y="14238"/>
                </a:cubicBezTo>
                <a:cubicBezTo>
                  <a:pt x="14139" y="14460"/>
                  <a:pt x="14322" y="14626"/>
                  <a:pt x="14387" y="14833"/>
                </a:cubicBezTo>
                <a:cubicBezTo>
                  <a:pt x="14412" y="14913"/>
                  <a:pt x="14406" y="14929"/>
                  <a:pt x="14387" y="14957"/>
                </a:cubicBezTo>
              </a:path>
              <a:path w="3126" h="745">
                <a:moveTo>
                  <a:pt x="14114" y="14784"/>
                </a:moveTo>
                <a:cubicBezTo>
                  <a:pt x="14293" y="14731"/>
                  <a:pt x="14452" y="14692"/>
                  <a:pt x="14635" y="14660"/>
                </a:cubicBezTo>
              </a:path>
              <a:path w="3126" h="745">
                <a:moveTo>
                  <a:pt x="14784" y="14610"/>
                </a:moveTo>
                <a:cubicBezTo>
                  <a:pt x="14628" y="14532"/>
                  <a:pt x="14550" y="14710"/>
                  <a:pt x="14560" y="14858"/>
                </a:cubicBezTo>
                <a:cubicBezTo>
                  <a:pt x="14581" y="15170"/>
                  <a:pt x="14838" y="14770"/>
                  <a:pt x="14858" y="14709"/>
                </a:cubicBezTo>
                <a:cubicBezTo>
                  <a:pt x="14716" y="14593"/>
                  <a:pt x="14875" y="14817"/>
                  <a:pt x="14932" y="14833"/>
                </a:cubicBezTo>
                <a:cubicBezTo>
                  <a:pt x="15032" y="14861"/>
                  <a:pt x="15147" y="14631"/>
                  <a:pt x="15156" y="14734"/>
                </a:cubicBezTo>
                <a:cubicBezTo>
                  <a:pt x="15156" y="14784"/>
                  <a:pt x="15156" y="14800"/>
                  <a:pt x="15156" y="14833"/>
                </a:cubicBezTo>
                <a:cubicBezTo>
                  <a:pt x="15156" y="14670"/>
                  <a:pt x="15124" y="14571"/>
                  <a:pt x="15304" y="14511"/>
                </a:cubicBezTo>
                <a:cubicBezTo>
                  <a:pt x="15346" y="14503"/>
                  <a:pt x="15387" y="14494"/>
                  <a:pt x="15429" y="14486"/>
                </a:cubicBezTo>
              </a:path>
              <a:path w="3126" h="745">
                <a:moveTo>
                  <a:pt x="15825" y="14288"/>
                </a:moveTo>
                <a:cubicBezTo>
                  <a:pt x="15846" y="14509"/>
                  <a:pt x="15888" y="14676"/>
                  <a:pt x="15974" y="14883"/>
                </a:cubicBezTo>
                <a:cubicBezTo>
                  <a:pt x="15987" y="14803"/>
                  <a:pt x="16030" y="14581"/>
                  <a:pt x="16148" y="14585"/>
                </a:cubicBezTo>
                <a:cubicBezTo>
                  <a:pt x="16271" y="14589"/>
                  <a:pt x="16308" y="14811"/>
                  <a:pt x="16371" y="14858"/>
                </a:cubicBezTo>
              </a:path>
              <a:path w="3126" h="745">
                <a:moveTo>
                  <a:pt x="16446" y="14684"/>
                </a:moveTo>
                <a:cubicBezTo>
                  <a:pt x="16543" y="14636"/>
                  <a:pt x="16575" y="14621"/>
                  <a:pt x="16619" y="14560"/>
                </a:cubicBezTo>
                <a:cubicBezTo>
                  <a:pt x="16578" y="14436"/>
                  <a:pt x="16435" y="14587"/>
                  <a:pt x="16421" y="14684"/>
                </a:cubicBezTo>
                <a:cubicBezTo>
                  <a:pt x="16393" y="14884"/>
                  <a:pt x="16616" y="14775"/>
                  <a:pt x="16694" y="14759"/>
                </a:cubicBezTo>
              </a:path>
              <a:path w="3126" h="745">
                <a:moveTo>
                  <a:pt x="16743" y="14536"/>
                </a:moveTo>
                <a:cubicBezTo>
                  <a:pt x="16713" y="14627"/>
                  <a:pt x="16895" y="14680"/>
                  <a:pt x="17016" y="14759"/>
                </a:cubicBezTo>
                <a:cubicBezTo>
                  <a:pt x="16884" y="14917"/>
                  <a:pt x="16824" y="14859"/>
                  <a:pt x="16718" y="14734"/>
                </a:cubicBezTo>
              </a:path>
              <a:path w="3126" h="745">
                <a:moveTo>
                  <a:pt x="17090" y="14213"/>
                </a:moveTo>
                <a:cubicBezTo>
                  <a:pt x="17121" y="14380"/>
                  <a:pt x="17242" y="14626"/>
                  <a:pt x="17239" y="14784"/>
                </a:cubicBezTo>
                <a:cubicBezTo>
                  <a:pt x="17231" y="14767"/>
                  <a:pt x="17222" y="14751"/>
                  <a:pt x="17214" y="1473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697800" y="5054760"/>
            <a:ext cx="554040" cy="241200"/>
          </a:xfrm>
          <a:custGeom>
            <a:avLst/>
            <a:gdLst/>
            <a:ahLst/>
            <a:rect l="l" t="t" r="r" b="b"/>
            <a:pathLst>
              <a:path w="1538" h="671">
                <a:moveTo>
                  <a:pt x="18604" y="14089"/>
                </a:moveTo>
                <a:cubicBezTo>
                  <a:pt x="18655" y="14287"/>
                  <a:pt x="18688" y="14491"/>
                  <a:pt x="18752" y="14684"/>
                </a:cubicBezTo>
              </a:path>
              <a:path w="1538" h="671">
                <a:moveTo>
                  <a:pt x="18976" y="14461"/>
                </a:moveTo>
                <a:cubicBezTo>
                  <a:pt x="19036" y="14447"/>
                  <a:pt x="19137" y="14459"/>
                  <a:pt x="19124" y="14387"/>
                </a:cubicBezTo>
                <a:cubicBezTo>
                  <a:pt x="19102" y="14319"/>
                  <a:pt x="19101" y="14298"/>
                  <a:pt x="19050" y="14288"/>
                </a:cubicBezTo>
                <a:cubicBezTo>
                  <a:pt x="18937" y="14401"/>
                  <a:pt x="18814" y="14638"/>
                  <a:pt x="19075" y="14684"/>
                </a:cubicBezTo>
                <a:cubicBezTo>
                  <a:pt x="19227" y="14660"/>
                  <a:pt x="19279" y="14650"/>
                  <a:pt x="19348" y="14560"/>
                </a:cubicBezTo>
              </a:path>
              <a:path w="1538" h="671">
                <a:moveTo>
                  <a:pt x="19447" y="14064"/>
                </a:moveTo>
                <a:cubicBezTo>
                  <a:pt x="19205" y="14064"/>
                  <a:pt x="19276" y="14280"/>
                  <a:pt x="19323" y="14486"/>
                </a:cubicBezTo>
                <a:cubicBezTo>
                  <a:pt x="19344" y="14581"/>
                  <a:pt x="19416" y="14746"/>
                  <a:pt x="19372" y="14660"/>
                </a:cubicBezTo>
              </a:path>
              <a:path w="1538" h="671">
                <a:moveTo>
                  <a:pt x="19745" y="14114"/>
                </a:moveTo>
                <a:cubicBezTo>
                  <a:pt x="19788" y="14278"/>
                  <a:pt x="19814" y="14448"/>
                  <a:pt x="19869" y="14610"/>
                </a:cubicBezTo>
                <a:cubicBezTo>
                  <a:pt x="19923" y="14768"/>
                  <a:pt x="20070" y="14640"/>
                  <a:pt x="20141" y="1458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919760" y="5911920"/>
            <a:ext cx="2492280" cy="196920"/>
          </a:xfrm>
          <a:custGeom>
            <a:avLst/>
            <a:gdLst/>
            <a:ahLst/>
            <a:rect l="l" t="t" r="r" b="b"/>
            <a:pathLst>
              <a:path w="6922" h="546">
                <a:moveTo>
                  <a:pt x="13667" y="16966"/>
                </a:moveTo>
                <a:cubicBezTo>
                  <a:pt x="13900" y="16932"/>
                  <a:pt x="14130" y="16887"/>
                  <a:pt x="14362" y="16867"/>
                </a:cubicBezTo>
              </a:path>
              <a:path w="6922" h="546">
                <a:moveTo>
                  <a:pt x="15081" y="16917"/>
                </a:moveTo>
                <a:cubicBezTo>
                  <a:pt x="15355" y="16942"/>
                  <a:pt x="15428" y="16931"/>
                  <a:pt x="15553" y="16694"/>
                </a:cubicBezTo>
              </a:path>
              <a:path w="6922" h="546">
                <a:moveTo>
                  <a:pt x="18976" y="16818"/>
                </a:moveTo>
                <a:lnTo>
                  <a:pt x="18976" y="16818"/>
                </a:lnTo>
              </a:path>
              <a:path w="6922" h="546">
                <a:moveTo>
                  <a:pt x="18951" y="16421"/>
                </a:moveTo>
                <a:cubicBezTo>
                  <a:pt x="18992" y="16437"/>
                  <a:pt x="19034" y="16454"/>
                  <a:pt x="19075" y="16470"/>
                </a:cubicBezTo>
              </a:path>
              <a:path w="6922" h="546">
                <a:moveTo>
                  <a:pt x="19993" y="16545"/>
                </a:moveTo>
                <a:cubicBezTo>
                  <a:pt x="20192" y="16500"/>
                  <a:pt x="20389" y="16466"/>
                  <a:pt x="20588" y="1642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000760" y="5911920"/>
            <a:ext cx="1206360" cy="268200"/>
          </a:xfrm>
          <a:custGeom>
            <a:avLst/>
            <a:gdLst/>
            <a:ahLst/>
            <a:rect l="l" t="t" r="r" b="b"/>
            <a:pathLst>
              <a:path w="3349" h="745">
                <a:moveTo>
                  <a:pt x="14114" y="16495"/>
                </a:moveTo>
                <a:cubicBezTo>
                  <a:pt x="14048" y="16438"/>
                  <a:pt x="13938" y="16371"/>
                  <a:pt x="13891" y="16520"/>
                </a:cubicBezTo>
                <a:cubicBezTo>
                  <a:pt x="13832" y="16708"/>
                  <a:pt x="14036" y="16921"/>
                  <a:pt x="14089" y="17090"/>
                </a:cubicBezTo>
                <a:cubicBezTo>
                  <a:pt x="14089" y="17147"/>
                  <a:pt x="14084" y="17159"/>
                  <a:pt x="14039" y="17090"/>
                </a:cubicBezTo>
              </a:path>
              <a:path w="3349" h="745">
                <a:moveTo>
                  <a:pt x="14610" y="16892"/>
                </a:moveTo>
                <a:cubicBezTo>
                  <a:pt x="14575" y="16753"/>
                  <a:pt x="14447" y="16904"/>
                  <a:pt x="14412" y="16966"/>
                </a:cubicBezTo>
                <a:cubicBezTo>
                  <a:pt x="14371" y="17088"/>
                  <a:pt x="14334" y="17117"/>
                  <a:pt x="14412" y="17165"/>
                </a:cubicBezTo>
                <a:cubicBezTo>
                  <a:pt x="14590" y="17123"/>
                  <a:pt x="14611" y="17071"/>
                  <a:pt x="14585" y="16892"/>
                </a:cubicBezTo>
                <a:cubicBezTo>
                  <a:pt x="14626" y="17014"/>
                  <a:pt x="14696" y="17208"/>
                  <a:pt x="14833" y="17016"/>
                </a:cubicBezTo>
                <a:cubicBezTo>
                  <a:pt x="14925" y="16887"/>
                  <a:pt x="14847" y="16996"/>
                  <a:pt x="14883" y="17090"/>
                </a:cubicBezTo>
                <a:cubicBezTo>
                  <a:pt x="14911" y="17090"/>
                  <a:pt x="14917" y="17088"/>
                  <a:pt x="14883" y="17066"/>
                </a:cubicBezTo>
                <a:cubicBezTo>
                  <a:pt x="14858" y="16905"/>
                  <a:pt x="14886" y="16866"/>
                  <a:pt x="15032" y="16793"/>
                </a:cubicBezTo>
                <a:cubicBezTo>
                  <a:pt x="15065" y="16776"/>
                  <a:pt x="15098" y="16760"/>
                  <a:pt x="15131" y="16743"/>
                </a:cubicBezTo>
              </a:path>
              <a:path w="3349" h="745">
                <a:moveTo>
                  <a:pt x="15205" y="16545"/>
                </a:moveTo>
                <a:cubicBezTo>
                  <a:pt x="15229" y="16635"/>
                  <a:pt x="15282" y="17078"/>
                  <a:pt x="15354" y="17115"/>
                </a:cubicBezTo>
                <a:cubicBezTo>
                  <a:pt x="15354" y="17099"/>
                  <a:pt x="15354" y="17082"/>
                  <a:pt x="15354" y="17066"/>
                </a:cubicBezTo>
              </a:path>
              <a:path w="3349" h="745">
                <a:moveTo>
                  <a:pt x="15503" y="16545"/>
                </a:moveTo>
                <a:cubicBezTo>
                  <a:pt x="15519" y="16717"/>
                  <a:pt x="15679" y="17196"/>
                  <a:pt x="15602" y="17041"/>
                </a:cubicBezTo>
                <a:cubicBezTo>
                  <a:pt x="15594" y="17024"/>
                  <a:pt x="15585" y="17008"/>
                  <a:pt x="15577" y="16991"/>
                </a:cubicBezTo>
                <a:cubicBezTo>
                  <a:pt x="15608" y="16873"/>
                  <a:pt x="15648" y="16622"/>
                  <a:pt x="15825" y="16768"/>
                </a:cubicBezTo>
                <a:cubicBezTo>
                  <a:pt x="15899" y="16829"/>
                  <a:pt x="15952" y="17100"/>
                  <a:pt x="15974" y="16991"/>
                </a:cubicBezTo>
              </a:path>
              <a:path w="3349" h="745">
                <a:moveTo>
                  <a:pt x="15999" y="16842"/>
                </a:moveTo>
                <a:cubicBezTo>
                  <a:pt x="16127" y="16805"/>
                  <a:pt x="16235" y="16791"/>
                  <a:pt x="16297" y="16669"/>
                </a:cubicBezTo>
                <a:cubicBezTo>
                  <a:pt x="16088" y="16668"/>
                  <a:pt x="16075" y="16797"/>
                  <a:pt x="16024" y="16991"/>
                </a:cubicBezTo>
                <a:cubicBezTo>
                  <a:pt x="16219" y="17052"/>
                  <a:pt x="16255" y="16965"/>
                  <a:pt x="16446" y="16842"/>
                </a:cubicBezTo>
              </a:path>
              <a:path w="3349" h="745">
                <a:moveTo>
                  <a:pt x="16396" y="16694"/>
                </a:moveTo>
                <a:cubicBezTo>
                  <a:pt x="16371" y="16694"/>
                  <a:pt x="16346" y="16694"/>
                  <a:pt x="16321" y="16694"/>
                </a:cubicBezTo>
                <a:cubicBezTo>
                  <a:pt x="16374" y="16780"/>
                  <a:pt x="16526" y="16832"/>
                  <a:pt x="16619" y="16892"/>
                </a:cubicBezTo>
                <a:cubicBezTo>
                  <a:pt x="16566" y="17051"/>
                  <a:pt x="16500" y="17075"/>
                  <a:pt x="16346" y="17016"/>
                </a:cubicBezTo>
              </a:path>
              <a:path w="3349" h="745">
                <a:moveTo>
                  <a:pt x="16768" y="16446"/>
                </a:moveTo>
                <a:cubicBezTo>
                  <a:pt x="16794" y="16638"/>
                  <a:pt x="16802" y="16835"/>
                  <a:pt x="16867" y="17016"/>
                </a:cubicBezTo>
              </a:path>
              <a:path w="3349" h="745">
                <a:moveTo>
                  <a:pt x="16545" y="16768"/>
                </a:moveTo>
                <a:cubicBezTo>
                  <a:pt x="16789" y="16743"/>
                  <a:pt x="17009" y="16679"/>
                  <a:pt x="17239" y="1659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607080" y="5830920"/>
            <a:ext cx="822600" cy="393840"/>
          </a:xfrm>
          <a:custGeom>
            <a:avLst/>
            <a:gdLst/>
            <a:ahLst/>
            <a:rect l="l" t="t" r="r" b="b"/>
            <a:pathLst>
              <a:path w="2284" h="1093">
                <a:moveTo>
                  <a:pt x="18355" y="16743"/>
                </a:moveTo>
                <a:cubicBezTo>
                  <a:pt x="18377" y="16851"/>
                  <a:pt x="18380" y="16878"/>
                  <a:pt x="18405" y="16942"/>
                </a:cubicBezTo>
                <a:cubicBezTo>
                  <a:pt x="18405" y="16784"/>
                  <a:pt x="18386" y="16649"/>
                  <a:pt x="18529" y="16545"/>
                </a:cubicBezTo>
                <a:cubicBezTo>
                  <a:pt x="18619" y="16480"/>
                  <a:pt x="18757" y="16561"/>
                  <a:pt x="18852" y="16570"/>
                </a:cubicBezTo>
              </a:path>
              <a:path w="2284" h="1093">
                <a:moveTo>
                  <a:pt x="18976" y="16867"/>
                </a:moveTo>
                <a:cubicBezTo>
                  <a:pt x="19020" y="16980"/>
                  <a:pt x="18980" y="16857"/>
                  <a:pt x="18976" y="16818"/>
                </a:cubicBezTo>
              </a:path>
              <a:path w="2284" h="1093">
                <a:moveTo>
                  <a:pt x="19422" y="16594"/>
                </a:moveTo>
                <a:cubicBezTo>
                  <a:pt x="19386" y="16617"/>
                  <a:pt x="19037" y="16861"/>
                  <a:pt x="19248" y="16917"/>
                </a:cubicBezTo>
                <a:cubicBezTo>
                  <a:pt x="19420" y="16963"/>
                  <a:pt x="19457" y="16795"/>
                  <a:pt x="19496" y="16694"/>
                </a:cubicBezTo>
                <a:cubicBezTo>
                  <a:pt x="19496" y="16677"/>
                  <a:pt x="19496" y="16661"/>
                  <a:pt x="19496" y="16644"/>
                </a:cubicBezTo>
                <a:cubicBezTo>
                  <a:pt x="19523" y="16816"/>
                  <a:pt x="19642" y="17049"/>
                  <a:pt x="19521" y="17214"/>
                </a:cubicBezTo>
                <a:cubicBezTo>
                  <a:pt x="19289" y="17531"/>
                  <a:pt x="19103" y="17104"/>
                  <a:pt x="19075" y="16966"/>
                </a:cubicBezTo>
              </a:path>
              <a:path w="2284" h="1093">
                <a:moveTo>
                  <a:pt x="19621" y="16396"/>
                </a:moveTo>
                <a:cubicBezTo>
                  <a:pt x="19659" y="16569"/>
                  <a:pt x="19695" y="16742"/>
                  <a:pt x="19720" y="16917"/>
                </a:cubicBezTo>
                <a:cubicBezTo>
                  <a:pt x="19747" y="16767"/>
                  <a:pt x="19792" y="16649"/>
                  <a:pt x="19869" y="16520"/>
                </a:cubicBezTo>
                <a:cubicBezTo>
                  <a:pt x="19995" y="16576"/>
                  <a:pt x="20019" y="16683"/>
                  <a:pt x="20067" y="16818"/>
                </a:cubicBezTo>
              </a:path>
              <a:path w="2284" h="1093">
                <a:moveTo>
                  <a:pt x="20191" y="16197"/>
                </a:moveTo>
                <a:cubicBezTo>
                  <a:pt x="20224" y="16350"/>
                  <a:pt x="20227" y="16650"/>
                  <a:pt x="20340" y="16768"/>
                </a:cubicBezTo>
                <a:cubicBezTo>
                  <a:pt x="20514" y="16949"/>
                  <a:pt x="20617" y="16719"/>
                  <a:pt x="20638" y="1659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857680" y="5956200"/>
            <a:ext cx="169560" cy="231840"/>
          </a:xfrm>
          <a:custGeom>
            <a:avLst/>
            <a:gdLst/>
            <a:ahLst/>
            <a:rect l="l" t="t" r="r" b="b"/>
            <a:pathLst>
              <a:path w="472" h="646">
                <a:moveTo>
                  <a:pt x="8334" y="16570"/>
                </a:moveTo>
                <a:cubicBezTo>
                  <a:pt x="8337" y="16501"/>
                  <a:pt x="8054" y="16617"/>
                  <a:pt x="7987" y="16669"/>
                </a:cubicBezTo>
                <a:cubicBezTo>
                  <a:pt x="7971" y="16694"/>
                  <a:pt x="7954" y="16718"/>
                  <a:pt x="7938" y="16743"/>
                </a:cubicBezTo>
                <a:cubicBezTo>
                  <a:pt x="8100" y="16873"/>
                  <a:pt x="8295" y="16951"/>
                  <a:pt x="8409" y="17115"/>
                </a:cubicBezTo>
                <a:cubicBezTo>
                  <a:pt x="8264" y="17197"/>
                  <a:pt x="8065" y="17234"/>
                  <a:pt x="8161" y="16966"/>
                </a:cubicBezTo>
                <a:cubicBezTo>
                  <a:pt x="8195" y="16871"/>
                  <a:pt x="8282" y="16745"/>
                  <a:pt x="8359" y="1669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compare integers and absolute values on a number line and find distance between points.</a:t>
            </a:r>
            <a:endParaRPr b="0" lang="en-US" sz="2000" spc="-1" strike="noStrike">
              <a:solidFill>
                <a:srgbClr val="000000"/>
              </a:solidFill>
              <a:latin typeface="Arial"/>
            </a:endParaRPr>
          </a:p>
        </p:txBody>
      </p:sp>
      <p:sp>
        <p:nvSpPr>
          <p:cNvPr id="108" name="PlaceHolder 2"/>
          <p:cNvSpPr>
            <a:spLocks noGrp="1"/>
          </p:cNvSpPr>
          <p:nvPr>
            <p:ph/>
          </p:nvPr>
        </p:nvSpPr>
        <p:spPr>
          <a:xfrm>
            <a:off x="380880" y="1218960"/>
            <a:ext cx="8305920" cy="2819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en we compare numbers we are really identifying their positions “compared” to one another on the number lin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umber on the left is less than the number on the righ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
          <p:cNvSpPr/>
          <p:nvPr/>
        </p:nvSpPr>
        <p:spPr>
          <a:xfrm>
            <a:off x="426960" y="4154400"/>
            <a:ext cx="6142680" cy="67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3 numbers with values less than -8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ay want to place them on the number line to be sure you are correct)</a:t>
            </a:r>
            <a:endParaRPr b="0" lang="en-US" sz="1400" spc="-1" strike="noStrike">
              <a:solidFill>
                <a:srgbClr val="000000"/>
              </a:solidFill>
              <a:latin typeface="Arial"/>
            </a:endParaRPr>
          </a:p>
        </p:txBody>
      </p:sp>
      <p:sp>
        <p:nvSpPr>
          <p:cNvPr id="110" name=""/>
          <p:cNvSpPr/>
          <p:nvPr/>
        </p:nvSpPr>
        <p:spPr>
          <a:xfrm>
            <a:off x="517680" y="5373720"/>
            <a:ext cx="6111720" cy="10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3 numbers with values greater than -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ay want to place them on the number line to be sure you are corr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  Students will compare integers and absolute values on a number line and find distance between points.</a:t>
            </a:r>
            <a:endParaRPr b="0" lang="en-US" sz="2400" spc="-1" strike="noStrike">
              <a:solidFill>
                <a:srgbClr val="000000"/>
              </a:solidFill>
              <a:latin typeface="Arial"/>
            </a:endParaRPr>
          </a:p>
        </p:txBody>
      </p:sp>
      <p:sp>
        <p:nvSpPr>
          <p:cNvPr id="112" name="PlaceHolder 2"/>
          <p:cNvSpPr>
            <a:spLocks noGrp="1"/>
          </p:cNvSpPr>
          <p:nvPr>
            <p:ph/>
          </p:nvPr>
        </p:nvSpPr>
        <p:spPr>
          <a:xfrm>
            <a:off x="457200" y="1599840"/>
            <a:ext cx="82296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n </a:t>
            </a:r>
            <a:r>
              <a:rPr b="1" i="1" lang="en-US" sz="2800" spc="-1" strike="noStrike" u="sng">
                <a:solidFill>
                  <a:srgbClr val="000000"/>
                </a:solidFill>
                <a:uFillTx/>
                <a:latin typeface="Arial"/>
              </a:rPr>
              <a:t>absolute value</a:t>
            </a:r>
            <a:r>
              <a:rPr b="0" lang="en-US" sz="2800" spc="-1" strike="noStrike">
                <a:solidFill>
                  <a:srgbClr val="000000"/>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113" name=""/>
              <p:cNvSpPr txBox="1"/>
              <p:nvPr/>
            </p:nvSpPr>
            <p:spPr>
              <a:xfrm>
                <a:off x="4091040" y="2286000"/>
                <a:ext cx="496800" cy="762120"/>
              </a:xfrm>
              <a:prstGeom prst="rect">
                <a:avLst/>
              </a:prstGeom>
            </p:spPr>
            <p:txBody>
              <a:bodyPr/>
              <a:p>
                <a14:m>
                  <m:oMath xmlns:m="http://schemas.openxmlformats.org/officeDocument/2006/math">
                    <m:d>
                      <m:dPr>
                        <m:begChr m:val="|"/>
                        <m:endChr m:val="|"/>
                      </m:dPr>
                      <m:e>
                        <m:r>
                          <m:t xml:space="preserve">5</m:t>
                        </m:r>
                      </m:e>
                    </m:d>
                  </m:oMath>
                </a14:m>
              </a:p>
            </p:txBody>
          </p:sp>
        </mc:Choice>
        <mc:Fallback/>
      </mc:AlternateContent>
      <p:sp>
        <p:nvSpPr>
          <p:cNvPr id="114" name=""/>
          <p:cNvSpPr/>
          <p:nvPr/>
        </p:nvSpPr>
        <p:spPr>
          <a:xfrm>
            <a:off x="381600" y="2441520"/>
            <a:ext cx="387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bsolute of 5?  </a:t>
            </a:r>
            <a:endParaRPr b="0" lang="en-US" sz="2400" spc="-1" strike="noStrike">
              <a:solidFill>
                <a:srgbClr val="000000"/>
              </a:solidFill>
              <a:latin typeface="Arial"/>
            </a:endParaRPr>
          </a:p>
        </p:txBody>
      </p:sp>
      <p:sp>
        <p:nvSpPr>
          <p:cNvPr id="115" name=""/>
          <p:cNvSpPr/>
          <p:nvPr/>
        </p:nvSpPr>
        <p:spPr>
          <a:xfrm>
            <a:off x="517680" y="3809880"/>
            <a:ext cx="313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t>
            </a:r>
            <a:endParaRPr b="0" lang="en-US" sz="24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1828800" y="3657600"/>
                <a:ext cx="914400" cy="871560"/>
              </a:xfrm>
              <a:prstGeom prst="rect">
                <a:avLst/>
              </a:prstGeom>
            </p:spPr>
            <p:txBody>
              <a:bodyPr/>
              <a:p>
                <a14:m>
                  <m:oMath xmlns:m="http://schemas.openxmlformats.org/officeDocument/2006/math">
                    <m:d>
                      <m:dPr>
                        <m:begChr m:val="|"/>
                        <m:endChr m:val="|"/>
                      </m:dPr>
                      <m:e>
                        <m:r>
                          <m:t xml:space="preserve">−</m:t>
                        </m:r>
                        <m:r>
                          <m:t xml:space="preserve">5</m:t>
                        </m:r>
                      </m:e>
                    </m:d>
                  </m:oMath>
                </a14:m>
              </a:p>
            </p:txBody>
          </p:sp>
        </mc:Choice>
        <mc:Fallback/>
      </mc:AlternateContent>
      <p:sp>
        <p:nvSpPr>
          <p:cNvPr id="117" name=""/>
          <p:cNvSpPr/>
          <p:nvPr/>
        </p:nvSpPr>
        <p:spPr>
          <a:xfrm>
            <a:off x="4680000" y="2633760"/>
            <a:ext cx="133200" cy="90360"/>
          </a:xfrm>
          <a:custGeom>
            <a:avLst/>
            <a:gdLst/>
            <a:ahLst/>
            <a:rect l="l" t="t" r="r" b="b"/>
            <a:pathLst>
              <a:path w="373" h="249">
                <a:moveTo>
                  <a:pt x="12998" y="7417"/>
                </a:moveTo>
                <a:cubicBezTo>
                  <a:pt x="13102" y="7382"/>
                  <a:pt x="13206" y="7344"/>
                  <a:pt x="13320" y="7317"/>
                </a:cubicBezTo>
              </a:path>
              <a:path w="373" h="249">
                <a:moveTo>
                  <a:pt x="13047" y="7565"/>
                </a:moveTo>
                <a:cubicBezTo>
                  <a:pt x="13165" y="7565"/>
                  <a:pt x="13259" y="7556"/>
                  <a:pt x="13370" y="7516"/>
                </a:cubicBezTo>
              </a:path>
            </a:pathLst>
          </a:custGeom>
          <a:noFill/>
          <a:ln cap="rnd" w="34920">
            <a:solidFill>
              <a:srgbClr val="ff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8" name=""/>
          <p:cNvSpPr/>
          <p:nvPr/>
        </p:nvSpPr>
        <p:spPr>
          <a:xfrm>
            <a:off x="5249880" y="2500200"/>
            <a:ext cx="206280" cy="196920"/>
          </a:xfrm>
          <a:custGeom>
            <a:avLst/>
            <a:gdLst/>
            <a:ahLst/>
            <a:rect l="l" t="t" r="r" b="b"/>
            <a:pathLst>
              <a:path w="572" h="547">
                <a:moveTo>
                  <a:pt x="14883" y="6945"/>
                </a:moveTo>
                <a:cubicBezTo>
                  <a:pt x="14732" y="6974"/>
                  <a:pt x="14750" y="6939"/>
                  <a:pt x="14709" y="7020"/>
                </a:cubicBezTo>
                <a:cubicBezTo>
                  <a:pt x="14641" y="7134"/>
                  <a:pt x="14621" y="7166"/>
                  <a:pt x="14585" y="7243"/>
                </a:cubicBezTo>
                <a:cubicBezTo>
                  <a:pt x="14747" y="7227"/>
                  <a:pt x="14887" y="7141"/>
                  <a:pt x="15056" y="7169"/>
                </a:cubicBezTo>
                <a:cubicBezTo>
                  <a:pt x="15089" y="7185"/>
                  <a:pt x="15123" y="7202"/>
                  <a:pt x="15156" y="7218"/>
                </a:cubicBezTo>
                <a:cubicBezTo>
                  <a:pt x="15109" y="7482"/>
                  <a:pt x="15021" y="7482"/>
                  <a:pt x="14759" y="7491"/>
                </a:cubicBezTo>
                <a:cubicBezTo>
                  <a:pt x="14709" y="7491"/>
                  <a:pt x="14660" y="7491"/>
                  <a:pt x="14610" y="749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241800" y="4054320"/>
            <a:ext cx="160200" cy="106560"/>
          </a:xfrm>
          <a:custGeom>
            <a:avLst/>
            <a:gdLst/>
            <a:ahLst/>
            <a:rect l="l" t="t" r="r" b="b"/>
            <a:pathLst>
              <a:path w="448" h="299">
                <a:moveTo>
                  <a:pt x="9004" y="11336"/>
                </a:moveTo>
                <a:cubicBezTo>
                  <a:pt x="9107" y="11336"/>
                  <a:pt x="9175" y="11261"/>
                  <a:pt x="9277" y="11261"/>
                </a:cubicBezTo>
                <a:cubicBezTo>
                  <a:pt x="9277" y="11269"/>
                  <a:pt x="9277" y="11278"/>
                  <a:pt x="9277" y="11286"/>
                </a:cubicBezTo>
              </a:path>
              <a:path w="448" h="299">
                <a:moveTo>
                  <a:pt x="9004" y="11559"/>
                </a:moveTo>
                <a:cubicBezTo>
                  <a:pt x="9160" y="11533"/>
                  <a:pt x="9303" y="11469"/>
                  <a:pt x="9451" y="1141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616200" y="3875040"/>
            <a:ext cx="189000" cy="241200"/>
          </a:xfrm>
          <a:custGeom>
            <a:avLst/>
            <a:gdLst/>
            <a:ahLst/>
            <a:rect l="l" t="t" r="r" b="b"/>
            <a:pathLst>
              <a:path w="522" h="671">
                <a:moveTo>
                  <a:pt x="10468" y="10765"/>
                </a:moveTo>
                <a:cubicBezTo>
                  <a:pt x="10264" y="10808"/>
                  <a:pt x="10204" y="10826"/>
                  <a:pt x="10096" y="11013"/>
                </a:cubicBezTo>
                <a:cubicBezTo>
                  <a:pt x="10059" y="11086"/>
                  <a:pt x="10042" y="11091"/>
                  <a:pt x="10046" y="11137"/>
                </a:cubicBezTo>
                <a:cubicBezTo>
                  <a:pt x="10167" y="11117"/>
                  <a:pt x="10262" y="11040"/>
                  <a:pt x="10393" y="11063"/>
                </a:cubicBezTo>
                <a:cubicBezTo>
                  <a:pt x="10504" y="11107"/>
                  <a:pt x="10537" y="11111"/>
                  <a:pt x="10567" y="11187"/>
                </a:cubicBezTo>
                <a:cubicBezTo>
                  <a:pt x="10498" y="11370"/>
                  <a:pt x="10434" y="11456"/>
                  <a:pt x="10220" y="11410"/>
                </a:cubicBezTo>
                <a:cubicBezTo>
                  <a:pt x="10203" y="11402"/>
                  <a:pt x="10187" y="11393"/>
                  <a:pt x="10170" y="1138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Students will compare integers and absolute values on a number line and find distance between points.</a:t>
            </a:r>
            <a:endParaRPr b="0" lang="en-US" sz="2000" spc="-1" strike="noStrike">
              <a:solidFill>
                <a:srgbClr val="000000"/>
              </a:solidFill>
              <a:latin typeface="Arial"/>
            </a:endParaRPr>
          </a:p>
        </p:txBody>
      </p:sp>
      <p:sp>
        <p:nvSpPr>
          <p:cNvPr id="122"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absolute value of 5 is 5 and the absolute value of -5 is 5, what is the distance between the two numbers on a number line?</a:t>
            </a:r>
            <a:endParaRPr b="0" lang="en-US" sz="2800" spc="-1" strike="noStrike">
              <a:solidFill>
                <a:srgbClr val="000000"/>
              </a:solidFill>
              <a:latin typeface="Arial"/>
            </a:endParaRPr>
          </a:p>
        </p:txBody>
      </p:sp>
      <p:sp>
        <p:nvSpPr>
          <p:cNvPr id="123" name=""/>
          <p:cNvSpPr/>
          <p:nvPr/>
        </p:nvSpPr>
        <p:spPr>
          <a:xfrm>
            <a:off x="304920" y="4114800"/>
            <a:ext cx="8458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solute values of 5 and -5 add up to equal the distance between the two numbe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adding the absolute values of two numbers always give you the distance between th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
          <p:cNvSpPr/>
          <p:nvPr/>
        </p:nvSpPr>
        <p:spPr>
          <a:xfrm>
            <a:off x="533520" y="3048120"/>
            <a:ext cx="7696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160880" y="2938320"/>
            <a:ext cx="152280" cy="436680"/>
          </a:xfrm>
          <a:custGeom>
            <a:avLst/>
            <a:gdLst/>
            <a:ahLst/>
            <a:rect l="l" t="t" r="r" b="b"/>
            <a:pathLst>
              <a:path w="423" h="1216">
                <a:moveTo>
                  <a:pt x="11708" y="8210"/>
                </a:moveTo>
                <a:cubicBezTo>
                  <a:pt x="11708" y="8182"/>
                  <a:pt x="11711" y="8172"/>
                  <a:pt x="11733" y="8161"/>
                </a:cubicBezTo>
                <a:cubicBezTo>
                  <a:pt x="11721" y="8311"/>
                  <a:pt x="11708" y="8456"/>
                  <a:pt x="11708" y="8607"/>
                </a:cubicBezTo>
              </a:path>
              <a:path w="423" h="1216">
                <a:moveTo>
                  <a:pt x="11733" y="9029"/>
                </a:moveTo>
                <a:cubicBezTo>
                  <a:pt x="11733" y="8872"/>
                  <a:pt x="11584" y="9177"/>
                  <a:pt x="11584" y="9178"/>
                </a:cubicBezTo>
                <a:cubicBezTo>
                  <a:pt x="11576" y="9219"/>
                  <a:pt x="11567" y="9261"/>
                  <a:pt x="11559" y="9302"/>
                </a:cubicBezTo>
                <a:cubicBezTo>
                  <a:pt x="11756" y="9420"/>
                  <a:pt x="11838" y="9380"/>
                  <a:pt x="11981" y="9203"/>
                </a:cubicBezTo>
                <a:cubicBezTo>
                  <a:pt x="11869" y="9051"/>
                  <a:pt x="11827" y="9029"/>
                  <a:pt x="11633" y="902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241880" y="2446200"/>
            <a:ext cx="17280" cy="125640"/>
          </a:xfrm>
          <a:custGeom>
            <a:avLst/>
            <a:gdLst/>
            <a:ahLst/>
            <a:rect l="l" t="t" r="r" b="b"/>
            <a:pathLst>
              <a:path w="51" h="349">
                <a:moveTo>
                  <a:pt x="11807" y="6796"/>
                </a:moveTo>
                <a:cubicBezTo>
                  <a:pt x="11807" y="6887"/>
                  <a:pt x="11866" y="7068"/>
                  <a:pt x="11807" y="7144"/>
                </a:cubicBezTo>
                <a:cubicBezTo>
                  <a:pt x="11799" y="7136"/>
                  <a:pt x="11790" y="7127"/>
                  <a:pt x="11782" y="711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23960" y="2517840"/>
            <a:ext cx="5821200" cy="2206440"/>
          </a:xfrm>
          <a:custGeom>
            <a:avLst/>
            <a:gdLst/>
            <a:ahLst/>
            <a:rect l="l" t="t" r="r" b="b"/>
            <a:pathLst>
              <a:path w="16174" h="6128">
                <a:moveTo>
                  <a:pt x="18058" y="8062"/>
                </a:moveTo>
                <a:cubicBezTo>
                  <a:pt x="18115" y="8213"/>
                  <a:pt x="18164" y="8346"/>
                  <a:pt x="18182" y="8508"/>
                </a:cubicBezTo>
              </a:path>
              <a:path w="16174" h="6128">
                <a:moveTo>
                  <a:pt x="4936" y="9079"/>
                </a:moveTo>
                <a:cubicBezTo>
                  <a:pt x="5001" y="9035"/>
                  <a:pt x="5016" y="9024"/>
                  <a:pt x="5060" y="9004"/>
                </a:cubicBezTo>
              </a:path>
              <a:path w="16174" h="6128">
                <a:moveTo>
                  <a:pt x="2009" y="6995"/>
                </a:moveTo>
                <a:cubicBezTo>
                  <a:pt x="2017" y="6995"/>
                  <a:pt x="2026" y="6995"/>
                  <a:pt x="2034" y="6995"/>
                </a:cubicBezTo>
              </a:path>
              <a:path w="16174" h="6128">
                <a:moveTo>
                  <a:pt x="14461" y="13122"/>
                </a:moveTo>
                <a:cubicBezTo>
                  <a:pt x="14605" y="13098"/>
                  <a:pt x="14724" y="13075"/>
                  <a:pt x="14858" y="1302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500880" y="3197160"/>
            <a:ext cx="160200" cy="177840"/>
          </a:xfrm>
          <a:custGeom>
            <a:avLst/>
            <a:gdLst/>
            <a:ahLst/>
            <a:rect l="l" t="t" r="r" b="b"/>
            <a:pathLst>
              <a:path w="447" h="497">
                <a:moveTo>
                  <a:pt x="18355" y="8880"/>
                </a:moveTo>
                <a:cubicBezTo>
                  <a:pt x="18287" y="8880"/>
                  <a:pt x="18183" y="8856"/>
                  <a:pt x="18157" y="8905"/>
                </a:cubicBezTo>
                <a:cubicBezTo>
                  <a:pt x="18143" y="8931"/>
                  <a:pt x="18038" y="9116"/>
                  <a:pt x="18083" y="9153"/>
                </a:cubicBezTo>
                <a:cubicBezTo>
                  <a:pt x="18091" y="9153"/>
                  <a:pt x="18099" y="9153"/>
                  <a:pt x="18107" y="9153"/>
                </a:cubicBezTo>
                <a:cubicBezTo>
                  <a:pt x="18243" y="9132"/>
                  <a:pt x="18338" y="9083"/>
                  <a:pt x="18479" y="9103"/>
                </a:cubicBezTo>
                <a:cubicBezTo>
                  <a:pt x="18506" y="9281"/>
                  <a:pt x="18417" y="9391"/>
                  <a:pt x="18207" y="9376"/>
                </a:cubicBezTo>
                <a:cubicBezTo>
                  <a:pt x="18157" y="9360"/>
                  <a:pt x="18108" y="9343"/>
                  <a:pt x="18058" y="932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687680" y="2401920"/>
            <a:ext cx="142560" cy="169920"/>
          </a:xfrm>
          <a:custGeom>
            <a:avLst/>
            <a:gdLst/>
            <a:ahLst/>
            <a:rect l="l" t="t" r="r" b="b"/>
            <a:pathLst>
              <a:path w="398" h="473">
                <a:moveTo>
                  <a:pt x="4961" y="6697"/>
                </a:moveTo>
                <a:cubicBezTo>
                  <a:pt x="4926" y="6644"/>
                  <a:pt x="4804" y="6689"/>
                  <a:pt x="4738" y="6722"/>
                </a:cubicBezTo>
                <a:cubicBezTo>
                  <a:pt x="4678" y="6752"/>
                  <a:pt x="4691" y="6889"/>
                  <a:pt x="4688" y="6945"/>
                </a:cubicBezTo>
                <a:cubicBezTo>
                  <a:pt x="4688" y="6953"/>
                  <a:pt x="4688" y="6962"/>
                  <a:pt x="4688" y="6970"/>
                </a:cubicBezTo>
                <a:cubicBezTo>
                  <a:pt x="4801" y="6907"/>
                  <a:pt x="4899" y="6836"/>
                  <a:pt x="5035" y="6896"/>
                </a:cubicBezTo>
                <a:cubicBezTo>
                  <a:pt x="5052" y="6912"/>
                  <a:pt x="5068" y="6929"/>
                  <a:pt x="5085" y="6945"/>
                </a:cubicBezTo>
                <a:cubicBezTo>
                  <a:pt x="5010" y="7125"/>
                  <a:pt x="4882" y="7128"/>
                  <a:pt x="4688" y="711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535040" y="2955960"/>
            <a:ext cx="295200" cy="492120"/>
          </a:xfrm>
          <a:custGeom>
            <a:avLst/>
            <a:gdLst/>
            <a:ahLst/>
            <a:rect l="l" t="t" r="r" b="b"/>
            <a:pathLst>
              <a:path w="820" h="1366">
                <a:moveTo>
                  <a:pt x="4787" y="8310"/>
                </a:moveTo>
                <a:cubicBezTo>
                  <a:pt x="4787" y="8268"/>
                  <a:pt x="4781" y="8173"/>
                  <a:pt x="4762" y="8210"/>
                </a:cubicBezTo>
                <a:cubicBezTo>
                  <a:pt x="4707" y="8320"/>
                  <a:pt x="4797" y="8541"/>
                  <a:pt x="4812" y="8657"/>
                </a:cubicBezTo>
                <a:cubicBezTo>
                  <a:pt x="4812" y="8682"/>
                  <a:pt x="4812" y="8690"/>
                  <a:pt x="4812" y="8706"/>
                </a:cubicBezTo>
              </a:path>
              <a:path w="820" h="1366">
                <a:moveTo>
                  <a:pt x="4266" y="9327"/>
                </a:moveTo>
                <a:cubicBezTo>
                  <a:pt x="4366" y="9305"/>
                  <a:pt x="4467" y="9237"/>
                  <a:pt x="4564" y="9203"/>
                </a:cubicBezTo>
                <a:cubicBezTo>
                  <a:pt x="4572" y="9203"/>
                  <a:pt x="4581" y="9203"/>
                  <a:pt x="4589" y="9203"/>
                </a:cubicBezTo>
              </a:path>
              <a:path w="820" h="1366">
                <a:moveTo>
                  <a:pt x="4961" y="9103"/>
                </a:moveTo>
                <a:cubicBezTo>
                  <a:pt x="4866" y="9119"/>
                  <a:pt x="4872" y="9202"/>
                  <a:pt x="4862" y="9302"/>
                </a:cubicBezTo>
                <a:cubicBezTo>
                  <a:pt x="4862" y="9310"/>
                  <a:pt x="4862" y="9319"/>
                  <a:pt x="4862" y="9327"/>
                </a:cubicBezTo>
                <a:cubicBezTo>
                  <a:pt x="4960" y="9299"/>
                  <a:pt x="5046" y="9235"/>
                  <a:pt x="5085" y="9376"/>
                </a:cubicBezTo>
                <a:cubicBezTo>
                  <a:pt x="5117" y="9492"/>
                  <a:pt x="4984" y="9646"/>
                  <a:pt x="4862" y="9575"/>
                </a:cubicBezTo>
                <a:cubicBezTo>
                  <a:pt x="4837" y="9542"/>
                  <a:pt x="4812" y="9508"/>
                  <a:pt x="4787" y="947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39840" y="2446200"/>
            <a:ext cx="490320" cy="376200"/>
          </a:xfrm>
          <a:custGeom>
            <a:avLst/>
            <a:gdLst/>
            <a:ahLst/>
            <a:rect l="l" t="t" r="r" b="b"/>
            <a:pathLst>
              <a:path w="1365" h="1043">
                <a:moveTo>
                  <a:pt x="1116" y="7317"/>
                </a:moveTo>
                <a:cubicBezTo>
                  <a:pt x="1207" y="7272"/>
                  <a:pt x="1149" y="7218"/>
                  <a:pt x="1091" y="7169"/>
                </a:cubicBezTo>
                <a:cubicBezTo>
                  <a:pt x="1023" y="7220"/>
                  <a:pt x="801" y="7530"/>
                  <a:pt x="1042" y="7565"/>
                </a:cubicBezTo>
                <a:cubicBezTo>
                  <a:pt x="1227" y="7592"/>
                  <a:pt x="1254" y="7371"/>
                  <a:pt x="1215" y="7268"/>
                </a:cubicBezTo>
                <a:cubicBezTo>
                  <a:pt x="1308" y="7361"/>
                  <a:pt x="1367" y="7425"/>
                  <a:pt x="1439" y="7367"/>
                </a:cubicBezTo>
              </a:path>
              <a:path w="1365" h="1043">
                <a:moveTo>
                  <a:pt x="1191" y="6945"/>
                </a:moveTo>
                <a:cubicBezTo>
                  <a:pt x="1240" y="7007"/>
                  <a:pt x="1485" y="7212"/>
                  <a:pt x="1364" y="7293"/>
                </a:cubicBezTo>
                <a:cubicBezTo>
                  <a:pt x="1348" y="7293"/>
                  <a:pt x="1331" y="7293"/>
                  <a:pt x="1315" y="7293"/>
                </a:cubicBezTo>
                <a:cubicBezTo>
                  <a:pt x="1269" y="7136"/>
                  <a:pt x="1255" y="7139"/>
                  <a:pt x="1364" y="7020"/>
                </a:cubicBezTo>
                <a:cubicBezTo>
                  <a:pt x="1427" y="7088"/>
                  <a:pt x="1601" y="7353"/>
                  <a:pt x="1339" y="7317"/>
                </a:cubicBezTo>
                <a:cubicBezTo>
                  <a:pt x="1262" y="7266"/>
                  <a:pt x="1237" y="7246"/>
                  <a:pt x="1265" y="7169"/>
                </a:cubicBezTo>
              </a:path>
              <a:path w="1365" h="1043">
                <a:moveTo>
                  <a:pt x="1612" y="6796"/>
                </a:moveTo>
                <a:cubicBezTo>
                  <a:pt x="1563" y="6821"/>
                  <a:pt x="1546" y="6830"/>
                  <a:pt x="1538" y="6871"/>
                </a:cubicBezTo>
                <a:cubicBezTo>
                  <a:pt x="1600" y="6907"/>
                  <a:pt x="1782" y="6924"/>
                  <a:pt x="1811" y="6995"/>
                </a:cubicBezTo>
                <a:cubicBezTo>
                  <a:pt x="1872" y="7145"/>
                  <a:pt x="1667" y="7160"/>
                  <a:pt x="1588" y="7144"/>
                </a:cubicBezTo>
              </a:path>
              <a:path w="1365" h="1043">
                <a:moveTo>
                  <a:pt x="1588" y="7714"/>
                </a:moveTo>
                <a:cubicBezTo>
                  <a:pt x="1663" y="7768"/>
                  <a:pt x="1748" y="7813"/>
                  <a:pt x="1836" y="7838"/>
                </a:cubicBezTo>
                <a:cubicBezTo>
                  <a:pt x="1836" y="7767"/>
                  <a:pt x="1781" y="7596"/>
                  <a:pt x="1811" y="7541"/>
                </a:cubicBezTo>
                <a:cubicBezTo>
                  <a:pt x="1827" y="7533"/>
                  <a:pt x="1844" y="7524"/>
                  <a:pt x="1860" y="7516"/>
                </a:cubicBezTo>
              </a:path>
              <a:path w="1365" h="1043">
                <a:moveTo>
                  <a:pt x="2034" y="7516"/>
                </a:moveTo>
                <a:cubicBezTo>
                  <a:pt x="2007" y="7610"/>
                  <a:pt x="1984" y="7661"/>
                  <a:pt x="1984" y="7764"/>
                </a:cubicBezTo>
                <a:cubicBezTo>
                  <a:pt x="2092" y="7679"/>
                  <a:pt x="2095" y="7718"/>
                  <a:pt x="2133" y="7565"/>
                </a:cubicBezTo>
                <a:cubicBezTo>
                  <a:pt x="2252" y="7658"/>
                  <a:pt x="2213" y="7655"/>
                  <a:pt x="2307" y="754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68240" y="2500200"/>
            <a:ext cx="4017960" cy="2295720"/>
          </a:xfrm>
          <a:custGeom>
            <a:avLst/>
            <a:gdLst/>
            <a:ahLst/>
            <a:rect l="l" t="t" r="r" b="b"/>
            <a:pathLst>
              <a:path w="11163" h="6376">
                <a:moveTo>
                  <a:pt x="2133" y="7268"/>
                </a:moveTo>
                <a:cubicBezTo>
                  <a:pt x="2200" y="7324"/>
                  <a:pt x="2350" y="7546"/>
                  <a:pt x="2431" y="7541"/>
                </a:cubicBezTo>
                <a:cubicBezTo>
                  <a:pt x="2447" y="7533"/>
                  <a:pt x="2464" y="7524"/>
                  <a:pt x="2480" y="7516"/>
                </a:cubicBezTo>
              </a:path>
              <a:path w="11163" h="6376">
                <a:moveTo>
                  <a:pt x="2505" y="7466"/>
                </a:moveTo>
                <a:cubicBezTo>
                  <a:pt x="2513" y="7450"/>
                  <a:pt x="2522" y="7433"/>
                  <a:pt x="2530" y="7417"/>
                </a:cubicBezTo>
              </a:path>
              <a:path w="11163" h="6376">
                <a:moveTo>
                  <a:pt x="2530" y="7417"/>
                </a:moveTo>
                <a:lnTo>
                  <a:pt x="2530" y="7417"/>
                </a:lnTo>
              </a:path>
              <a:path w="11163" h="6376">
                <a:moveTo>
                  <a:pt x="11658" y="7069"/>
                </a:moveTo>
                <a:cubicBezTo>
                  <a:pt x="11822" y="7004"/>
                  <a:pt x="11976" y="6960"/>
                  <a:pt x="12154" y="6945"/>
                </a:cubicBezTo>
              </a:path>
              <a:path w="11163" h="6376">
                <a:moveTo>
                  <a:pt x="13221" y="12923"/>
                </a:moveTo>
                <a:cubicBezTo>
                  <a:pt x="13232" y="13059"/>
                  <a:pt x="13253" y="13192"/>
                  <a:pt x="13295" y="1332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276960" y="2401920"/>
            <a:ext cx="169920" cy="169920"/>
          </a:xfrm>
          <a:custGeom>
            <a:avLst/>
            <a:gdLst/>
            <a:ahLst/>
            <a:rect l="l" t="t" r="r" b="b"/>
            <a:pathLst>
              <a:path w="472" h="473">
                <a:moveTo>
                  <a:pt x="17884" y="6697"/>
                </a:moveTo>
                <a:cubicBezTo>
                  <a:pt x="17827" y="6689"/>
                  <a:pt x="17618" y="6722"/>
                  <a:pt x="17562" y="6772"/>
                </a:cubicBezTo>
                <a:cubicBezTo>
                  <a:pt x="17538" y="6793"/>
                  <a:pt x="17541" y="6886"/>
                  <a:pt x="17537" y="6921"/>
                </a:cubicBezTo>
                <a:cubicBezTo>
                  <a:pt x="17711" y="6908"/>
                  <a:pt x="17780" y="6879"/>
                  <a:pt x="17909" y="6995"/>
                </a:cubicBezTo>
                <a:cubicBezTo>
                  <a:pt x="17766" y="7208"/>
                  <a:pt x="17660" y="7127"/>
                  <a:pt x="17438" y="704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759800" y="2455920"/>
            <a:ext cx="98280" cy="71280"/>
          </a:xfrm>
          <a:custGeom>
            <a:avLst/>
            <a:gdLst/>
            <a:ahLst/>
            <a:rect l="l" t="t" r="r" b="b"/>
            <a:pathLst>
              <a:path w="274" h="200">
                <a:moveTo>
                  <a:pt x="21555" y="6871"/>
                </a:moveTo>
                <a:cubicBezTo>
                  <a:pt x="21644" y="6871"/>
                  <a:pt x="21719" y="6842"/>
                  <a:pt x="21803" y="6821"/>
                </a:cubicBezTo>
                <a:cubicBezTo>
                  <a:pt x="21811" y="6821"/>
                  <a:pt x="21820" y="6821"/>
                  <a:pt x="21828" y="6821"/>
                </a:cubicBezTo>
              </a:path>
              <a:path w="274" h="200">
                <a:moveTo>
                  <a:pt x="21555" y="7020"/>
                </a:moveTo>
                <a:cubicBezTo>
                  <a:pt x="21652" y="7020"/>
                  <a:pt x="21733" y="7012"/>
                  <a:pt x="21828" y="6995"/>
                </a:cubicBezTo>
              </a:path>
            </a:pathLst>
          </a:custGeom>
          <a:noFill/>
          <a:ln cap="rnd" w="34920">
            <a:solidFill>
              <a:srgbClr val="ff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5" name=""/>
          <p:cNvSpPr/>
          <p:nvPr/>
        </p:nvSpPr>
        <p:spPr>
          <a:xfrm>
            <a:off x="8035920" y="2411280"/>
            <a:ext cx="287280" cy="169920"/>
          </a:xfrm>
          <a:custGeom>
            <a:avLst/>
            <a:gdLst/>
            <a:ahLst/>
            <a:rect l="l" t="t" r="r" b="b"/>
            <a:pathLst>
              <a:path w="795" h="473">
                <a:moveTo>
                  <a:pt x="22324" y="6772"/>
                </a:moveTo>
                <a:cubicBezTo>
                  <a:pt x="22357" y="6899"/>
                  <a:pt x="22374" y="6965"/>
                  <a:pt x="22374" y="7094"/>
                </a:cubicBezTo>
              </a:path>
              <a:path w="795" h="473">
                <a:moveTo>
                  <a:pt x="22820" y="6697"/>
                </a:moveTo>
                <a:cubicBezTo>
                  <a:pt x="22697" y="6821"/>
                  <a:pt x="22669" y="6902"/>
                  <a:pt x="22622" y="7069"/>
                </a:cubicBezTo>
                <a:cubicBezTo>
                  <a:pt x="22768" y="7162"/>
                  <a:pt x="23097" y="7260"/>
                  <a:pt x="23118" y="6945"/>
                </a:cubicBezTo>
                <a:cubicBezTo>
                  <a:pt x="23130" y="6771"/>
                  <a:pt x="22931" y="6755"/>
                  <a:pt x="22820" y="672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456080" y="4633920"/>
            <a:ext cx="160200" cy="216000"/>
          </a:xfrm>
          <a:custGeom>
            <a:avLst/>
            <a:gdLst/>
            <a:ahLst/>
            <a:rect l="l" t="t" r="r" b="b"/>
            <a:pathLst>
              <a:path w="447" h="596">
                <a:moveTo>
                  <a:pt x="12725" y="12874"/>
                </a:moveTo>
                <a:cubicBezTo>
                  <a:pt x="12632" y="12874"/>
                  <a:pt x="12467" y="12830"/>
                  <a:pt x="12427" y="12923"/>
                </a:cubicBezTo>
                <a:cubicBezTo>
                  <a:pt x="12394" y="13000"/>
                  <a:pt x="12407" y="13062"/>
                  <a:pt x="12452" y="13122"/>
                </a:cubicBezTo>
                <a:cubicBezTo>
                  <a:pt x="12561" y="13102"/>
                  <a:pt x="12758" y="13005"/>
                  <a:pt x="12824" y="13171"/>
                </a:cubicBezTo>
                <a:cubicBezTo>
                  <a:pt x="12902" y="13367"/>
                  <a:pt x="12581" y="13530"/>
                  <a:pt x="12427" y="13469"/>
                </a:cubicBezTo>
                <a:cubicBezTo>
                  <a:pt x="12380" y="13398"/>
                  <a:pt x="12362" y="13376"/>
                  <a:pt x="12402" y="1332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697280" y="4606920"/>
            <a:ext cx="615960" cy="206280"/>
          </a:xfrm>
          <a:custGeom>
            <a:avLst/>
            <a:gdLst/>
            <a:ahLst/>
            <a:rect l="l" t="t" r="r" b="b"/>
            <a:pathLst>
              <a:path w="1713" h="572">
                <a:moveTo>
                  <a:pt x="13047" y="13171"/>
                </a:moveTo>
                <a:cubicBezTo>
                  <a:pt x="13211" y="13134"/>
                  <a:pt x="13364" y="13104"/>
                  <a:pt x="13519" y="13047"/>
                </a:cubicBezTo>
              </a:path>
              <a:path w="1713" h="572">
                <a:moveTo>
                  <a:pt x="13990" y="12799"/>
                </a:moveTo>
                <a:cubicBezTo>
                  <a:pt x="13906" y="12804"/>
                  <a:pt x="13744" y="12783"/>
                  <a:pt x="13692" y="12874"/>
                </a:cubicBezTo>
                <a:cubicBezTo>
                  <a:pt x="13662" y="12927"/>
                  <a:pt x="13636" y="12987"/>
                  <a:pt x="13618" y="13047"/>
                </a:cubicBezTo>
                <a:cubicBezTo>
                  <a:pt x="13754" y="13032"/>
                  <a:pt x="13858" y="12993"/>
                  <a:pt x="13990" y="13072"/>
                </a:cubicBezTo>
                <a:cubicBezTo>
                  <a:pt x="14069" y="13151"/>
                  <a:pt x="14093" y="13182"/>
                  <a:pt x="14064" y="13271"/>
                </a:cubicBezTo>
                <a:cubicBezTo>
                  <a:pt x="14017" y="13297"/>
                  <a:pt x="13504" y="13451"/>
                  <a:pt x="13667" y="13221"/>
                </a:cubicBezTo>
                <a:cubicBezTo>
                  <a:pt x="13717" y="13188"/>
                  <a:pt x="13766" y="13155"/>
                  <a:pt x="13816" y="13122"/>
                </a:cubicBezTo>
              </a:path>
              <a:path w="1713" h="572">
                <a:moveTo>
                  <a:pt x="14412" y="12923"/>
                </a:moveTo>
                <a:cubicBezTo>
                  <a:pt x="14531" y="12906"/>
                  <a:pt x="14638" y="12898"/>
                  <a:pt x="14759" y="1289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419800" y="4626000"/>
            <a:ext cx="223920" cy="177840"/>
          </a:xfrm>
          <a:custGeom>
            <a:avLst/>
            <a:gdLst/>
            <a:ahLst/>
            <a:rect l="l" t="t" r="r" b="b"/>
            <a:pathLst>
              <a:path w="622" h="497">
                <a:moveTo>
                  <a:pt x="15056" y="12849"/>
                </a:moveTo>
                <a:cubicBezTo>
                  <a:pt x="15056" y="13009"/>
                  <a:pt x="14989" y="13196"/>
                  <a:pt x="15131" y="13196"/>
                </a:cubicBezTo>
              </a:path>
              <a:path w="622" h="497">
                <a:moveTo>
                  <a:pt x="15379" y="12849"/>
                </a:moveTo>
                <a:cubicBezTo>
                  <a:pt x="15184" y="12963"/>
                  <a:pt x="15213" y="13080"/>
                  <a:pt x="15230" y="13295"/>
                </a:cubicBezTo>
                <a:cubicBezTo>
                  <a:pt x="15377" y="13326"/>
                  <a:pt x="15701" y="13308"/>
                  <a:pt x="15677" y="13047"/>
                </a:cubicBezTo>
                <a:cubicBezTo>
                  <a:pt x="15661" y="12870"/>
                  <a:pt x="15473" y="12887"/>
                  <a:pt x="15354" y="1287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054840" y="5653080"/>
            <a:ext cx="1946160" cy="187200"/>
          </a:xfrm>
          <a:custGeom>
            <a:avLst/>
            <a:gdLst/>
            <a:ahLst/>
            <a:rect l="l" t="t" r="r" b="b"/>
            <a:pathLst>
              <a:path w="5408" h="522">
                <a:moveTo>
                  <a:pt x="16818" y="16222"/>
                </a:moveTo>
                <a:cubicBezTo>
                  <a:pt x="16914" y="16222"/>
                  <a:pt x="16944" y="16224"/>
                  <a:pt x="16991" y="16173"/>
                </a:cubicBezTo>
              </a:path>
              <a:path w="5408" h="522">
                <a:moveTo>
                  <a:pt x="22151" y="15701"/>
                </a:moveTo>
                <a:cubicBezTo>
                  <a:pt x="22157" y="15832"/>
                  <a:pt x="22163" y="16043"/>
                  <a:pt x="22225" y="1607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545080" y="5796000"/>
            <a:ext cx="376200" cy="169920"/>
          </a:xfrm>
          <a:custGeom>
            <a:avLst/>
            <a:gdLst/>
            <a:ahLst/>
            <a:rect l="l" t="t" r="r" b="b"/>
            <a:pathLst>
              <a:path w="1043" h="473">
                <a:moveTo>
                  <a:pt x="15404" y="16123"/>
                </a:moveTo>
                <a:cubicBezTo>
                  <a:pt x="15498" y="16236"/>
                  <a:pt x="15513" y="16337"/>
                  <a:pt x="15528" y="16495"/>
                </a:cubicBezTo>
                <a:cubicBezTo>
                  <a:pt x="15511" y="16407"/>
                  <a:pt x="15458" y="16241"/>
                  <a:pt x="15553" y="16173"/>
                </a:cubicBezTo>
                <a:cubicBezTo>
                  <a:pt x="15724" y="16052"/>
                  <a:pt x="15852" y="16209"/>
                  <a:pt x="15900" y="16371"/>
                </a:cubicBezTo>
                <a:cubicBezTo>
                  <a:pt x="15900" y="16429"/>
                  <a:pt x="15900" y="16437"/>
                  <a:pt x="15900" y="16470"/>
                </a:cubicBezTo>
              </a:path>
              <a:path w="1043" h="473">
                <a:moveTo>
                  <a:pt x="16222" y="16098"/>
                </a:moveTo>
                <a:cubicBezTo>
                  <a:pt x="16051" y="16270"/>
                  <a:pt x="16002" y="16351"/>
                  <a:pt x="16098" y="16570"/>
                </a:cubicBezTo>
                <a:cubicBezTo>
                  <a:pt x="16211" y="16554"/>
                  <a:pt x="16561" y="16488"/>
                  <a:pt x="16446" y="16272"/>
                </a:cubicBezTo>
                <a:cubicBezTo>
                  <a:pt x="16350" y="16200"/>
                  <a:pt x="16321" y="16177"/>
                  <a:pt x="16247" y="1614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303960" y="5803920"/>
            <a:ext cx="554040" cy="295200"/>
          </a:xfrm>
          <a:custGeom>
            <a:avLst/>
            <a:gdLst/>
            <a:ahLst/>
            <a:rect l="l" t="t" r="r" b="b"/>
            <a:pathLst>
              <a:path w="1539" h="820">
                <a:moveTo>
                  <a:pt x="17587" y="16148"/>
                </a:moveTo>
                <a:cubicBezTo>
                  <a:pt x="17572" y="16283"/>
                  <a:pt x="17506" y="16449"/>
                  <a:pt x="17686" y="16495"/>
                </a:cubicBezTo>
                <a:cubicBezTo>
                  <a:pt x="17890" y="16547"/>
                  <a:pt x="17929" y="16409"/>
                  <a:pt x="18008" y="16272"/>
                </a:cubicBezTo>
                <a:cubicBezTo>
                  <a:pt x="18008" y="16247"/>
                  <a:pt x="18008" y="16222"/>
                  <a:pt x="18008" y="16197"/>
                </a:cubicBezTo>
                <a:cubicBezTo>
                  <a:pt x="18049" y="16383"/>
                  <a:pt x="18180" y="16546"/>
                  <a:pt x="18107" y="16743"/>
                </a:cubicBezTo>
                <a:cubicBezTo>
                  <a:pt x="18051" y="16895"/>
                  <a:pt x="17587" y="17095"/>
                  <a:pt x="17512" y="16867"/>
                </a:cubicBezTo>
                <a:cubicBezTo>
                  <a:pt x="17529" y="16817"/>
                  <a:pt x="17545" y="16768"/>
                  <a:pt x="17562" y="16718"/>
                </a:cubicBezTo>
              </a:path>
              <a:path w="1539" h="820">
                <a:moveTo>
                  <a:pt x="18281" y="16148"/>
                </a:moveTo>
                <a:cubicBezTo>
                  <a:pt x="18142" y="16286"/>
                  <a:pt x="18132" y="16304"/>
                  <a:pt x="18132" y="16495"/>
                </a:cubicBezTo>
                <a:cubicBezTo>
                  <a:pt x="18322" y="16538"/>
                  <a:pt x="18332" y="16510"/>
                  <a:pt x="18504" y="16396"/>
                </a:cubicBezTo>
                <a:cubicBezTo>
                  <a:pt x="18444" y="16203"/>
                  <a:pt x="18386" y="16228"/>
                  <a:pt x="18207" y="16148"/>
                </a:cubicBezTo>
              </a:path>
              <a:path w="1539" h="820">
                <a:moveTo>
                  <a:pt x="18604" y="16123"/>
                </a:moveTo>
                <a:cubicBezTo>
                  <a:pt x="18604" y="16238"/>
                  <a:pt x="18564" y="16419"/>
                  <a:pt x="18703" y="16470"/>
                </a:cubicBezTo>
                <a:cubicBezTo>
                  <a:pt x="18900" y="16542"/>
                  <a:pt x="18913" y="16289"/>
                  <a:pt x="18926" y="16173"/>
                </a:cubicBezTo>
                <a:cubicBezTo>
                  <a:pt x="18937" y="16070"/>
                  <a:pt x="18966" y="16360"/>
                  <a:pt x="19050" y="1642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153200" y="5670720"/>
            <a:ext cx="1062000" cy="214200"/>
          </a:xfrm>
          <a:custGeom>
            <a:avLst/>
            <a:gdLst/>
            <a:ahLst/>
            <a:rect l="l" t="t" r="r" b="b"/>
            <a:pathLst>
              <a:path w="2952" h="596">
                <a:moveTo>
                  <a:pt x="19869" y="16049"/>
                </a:moveTo>
                <a:cubicBezTo>
                  <a:pt x="19869" y="16173"/>
                  <a:pt x="19869" y="16214"/>
                  <a:pt x="19869" y="16297"/>
                </a:cubicBezTo>
                <a:cubicBezTo>
                  <a:pt x="19914" y="16390"/>
                  <a:pt x="19844" y="16148"/>
                  <a:pt x="19918" y="16049"/>
                </a:cubicBezTo>
                <a:cubicBezTo>
                  <a:pt x="20043" y="15883"/>
                  <a:pt x="20285" y="16143"/>
                  <a:pt x="20315" y="16272"/>
                </a:cubicBezTo>
                <a:cubicBezTo>
                  <a:pt x="20290" y="16345"/>
                  <a:pt x="20282" y="16371"/>
                  <a:pt x="20290" y="16272"/>
                </a:cubicBezTo>
              </a:path>
              <a:path w="2952" h="596">
                <a:moveTo>
                  <a:pt x="20340" y="16073"/>
                </a:moveTo>
                <a:cubicBezTo>
                  <a:pt x="20450" y="16065"/>
                  <a:pt x="20511" y="16044"/>
                  <a:pt x="20613" y="15999"/>
                </a:cubicBezTo>
                <a:cubicBezTo>
                  <a:pt x="20634" y="15999"/>
                  <a:pt x="20436" y="16040"/>
                  <a:pt x="20389" y="16098"/>
                </a:cubicBezTo>
                <a:cubicBezTo>
                  <a:pt x="20161" y="16384"/>
                  <a:pt x="20580" y="16305"/>
                  <a:pt x="20687" y="16272"/>
                </a:cubicBezTo>
              </a:path>
              <a:path w="2952" h="596">
                <a:moveTo>
                  <a:pt x="20811" y="16073"/>
                </a:moveTo>
                <a:cubicBezTo>
                  <a:pt x="20904" y="16048"/>
                  <a:pt x="21050" y="15989"/>
                  <a:pt x="21059" y="15949"/>
                </a:cubicBezTo>
                <a:cubicBezTo>
                  <a:pt x="21019" y="15968"/>
                  <a:pt x="20732" y="16124"/>
                  <a:pt x="20886" y="16197"/>
                </a:cubicBezTo>
                <a:cubicBezTo>
                  <a:pt x="21044" y="16224"/>
                  <a:pt x="21103" y="16229"/>
                  <a:pt x="21208" y="16173"/>
                </a:cubicBezTo>
              </a:path>
              <a:path w="2952" h="596">
                <a:moveTo>
                  <a:pt x="21506" y="15974"/>
                </a:moveTo>
                <a:cubicBezTo>
                  <a:pt x="21366" y="15990"/>
                  <a:pt x="21134" y="16028"/>
                  <a:pt x="21084" y="16197"/>
                </a:cubicBezTo>
                <a:cubicBezTo>
                  <a:pt x="21092" y="16222"/>
                  <a:pt x="21101" y="16247"/>
                  <a:pt x="21109" y="16272"/>
                </a:cubicBezTo>
                <a:cubicBezTo>
                  <a:pt x="21309" y="16293"/>
                  <a:pt x="21569" y="16276"/>
                  <a:pt x="21580" y="15999"/>
                </a:cubicBezTo>
                <a:cubicBezTo>
                  <a:pt x="21585" y="15879"/>
                  <a:pt x="21456" y="15818"/>
                  <a:pt x="21382" y="15751"/>
                </a:cubicBezTo>
                <a:cubicBezTo>
                  <a:pt x="21427" y="15865"/>
                  <a:pt x="21481" y="15988"/>
                  <a:pt x="21506" y="16123"/>
                </a:cubicBezTo>
                <a:cubicBezTo>
                  <a:pt x="21506" y="16166"/>
                  <a:pt x="21523" y="16168"/>
                  <a:pt x="21580" y="16123"/>
                </a:cubicBezTo>
              </a:path>
              <a:path w="2952" h="596">
                <a:moveTo>
                  <a:pt x="21853" y="15999"/>
                </a:moveTo>
                <a:cubicBezTo>
                  <a:pt x="22078" y="15991"/>
                  <a:pt x="22293" y="15985"/>
                  <a:pt x="22498" y="15900"/>
                </a:cubicBezTo>
                <a:cubicBezTo>
                  <a:pt x="22472" y="15963"/>
                  <a:pt x="22321" y="16081"/>
                  <a:pt x="22448" y="16148"/>
                </a:cubicBezTo>
                <a:cubicBezTo>
                  <a:pt x="22655" y="16258"/>
                  <a:pt x="22806" y="16080"/>
                  <a:pt x="22771" y="15925"/>
                </a:cubicBezTo>
                <a:cubicBezTo>
                  <a:pt x="22658" y="15868"/>
                  <a:pt x="22610" y="15856"/>
                  <a:pt x="22523" y="1592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823000" y="6018120"/>
            <a:ext cx="1338120" cy="295200"/>
          </a:xfrm>
          <a:custGeom>
            <a:avLst/>
            <a:gdLst/>
            <a:ahLst/>
            <a:rect l="l" t="t" r="r" b="b"/>
            <a:pathLst>
              <a:path w="3721" h="820">
                <a:moveTo>
                  <a:pt x="16421" y="17041"/>
                </a:moveTo>
                <a:cubicBezTo>
                  <a:pt x="16322" y="17073"/>
                  <a:pt x="16240" y="17138"/>
                  <a:pt x="16173" y="17214"/>
                </a:cubicBezTo>
                <a:cubicBezTo>
                  <a:pt x="16336" y="17273"/>
                  <a:pt x="16475" y="17292"/>
                  <a:pt x="16594" y="17413"/>
                </a:cubicBezTo>
                <a:cubicBezTo>
                  <a:pt x="16542" y="17454"/>
                  <a:pt x="16228" y="17678"/>
                  <a:pt x="16222" y="17462"/>
                </a:cubicBezTo>
                <a:cubicBezTo>
                  <a:pt x="16239" y="17421"/>
                  <a:pt x="16255" y="17379"/>
                  <a:pt x="16272" y="17338"/>
                </a:cubicBezTo>
              </a:path>
              <a:path w="3721" h="820">
                <a:moveTo>
                  <a:pt x="16743" y="17115"/>
                </a:moveTo>
                <a:cubicBezTo>
                  <a:pt x="16722" y="17261"/>
                  <a:pt x="16695" y="17364"/>
                  <a:pt x="16842" y="17462"/>
                </a:cubicBezTo>
                <a:cubicBezTo>
                  <a:pt x="17029" y="17586"/>
                  <a:pt x="17061" y="17356"/>
                  <a:pt x="17066" y="17239"/>
                </a:cubicBezTo>
                <a:cubicBezTo>
                  <a:pt x="17069" y="17152"/>
                  <a:pt x="17086" y="17424"/>
                  <a:pt x="17190" y="17487"/>
                </a:cubicBezTo>
                <a:cubicBezTo>
                  <a:pt x="17286" y="17487"/>
                  <a:pt x="17317" y="17490"/>
                  <a:pt x="17338" y="17413"/>
                </a:cubicBezTo>
              </a:path>
              <a:path w="3721" h="820">
                <a:moveTo>
                  <a:pt x="17239" y="16867"/>
                </a:moveTo>
                <a:cubicBezTo>
                  <a:pt x="17302" y="17050"/>
                  <a:pt x="17364" y="17235"/>
                  <a:pt x="17438" y="17413"/>
                </a:cubicBezTo>
                <a:cubicBezTo>
                  <a:pt x="17455" y="17324"/>
                  <a:pt x="17461" y="17134"/>
                  <a:pt x="17562" y="17090"/>
                </a:cubicBezTo>
                <a:cubicBezTo>
                  <a:pt x="17727" y="17019"/>
                  <a:pt x="17731" y="17270"/>
                  <a:pt x="17735" y="17338"/>
                </a:cubicBezTo>
                <a:cubicBezTo>
                  <a:pt x="17550" y="17437"/>
                  <a:pt x="17470" y="17453"/>
                  <a:pt x="17413" y="17239"/>
                </a:cubicBezTo>
              </a:path>
              <a:path w="3721" h="820">
                <a:moveTo>
                  <a:pt x="17859" y="16842"/>
                </a:moveTo>
                <a:cubicBezTo>
                  <a:pt x="17950" y="17022"/>
                  <a:pt x="17972" y="17228"/>
                  <a:pt x="18058" y="17413"/>
                </a:cubicBezTo>
                <a:cubicBezTo>
                  <a:pt x="18081" y="17436"/>
                  <a:pt x="18089" y="17447"/>
                  <a:pt x="18083" y="17413"/>
                </a:cubicBezTo>
              </a:path>
              <a:path w="3721" h="820">
                <a:moveTo>
                  <a:pt x="17686" y="17140"/>
                </a:moveTo>
                <a:cubicBezTo>
                  <a:pt x="17846" y="17125"/>
                  <a:pt x="18022" y="17061"/>
                  <a:pt x="18182" y="17066"/>
                </a:cubicBezTo>
                <a:cubicBezTo>
                  <a:pt x="18264" y="17069"/>
                  <a:pt x="18334" y="17225"/>
                  <a:pt x="18355" y="17289"/>
                </a:cubicBezTo>
                <a:cubicBezTo>
                  <a:pt x="18355" y="17297"/>
                  <a:pt x="18355" y="17306"/>
                  <a:pt x="18355" y="17314"/>
                </a:cubicBezTo>
                <a:cubicBezTo>
                  <a:pt x="18341" y="17227"/>
                  <a:pt x="18292" y="17154"/>
                  <a:pt x="18380" y="17090"/>
                </a:cubicBezTo>
                <a:cubicBezTo>
                  <a:pt x="18471" y="17024"/>
                  <a:pt x="18549" y="17023"/>
                  <a:pt x="18653" y="17016"/>
                </a:cubicBezTo>
              </a:path>
              <a:path w="3721" h="820">
                <a:moveTo>
                  <a:pt x="18827" y="17115"/>
                </a:moveTo>
                <a:cubicBezTo>
                  <a:pt x="18870" y="17094"/>
                  <a:pt x="18656" y="17189"/>
                  <a:pt x="18604" y="17264"/>
                </a:cubicBezTo>
                <a:cubicBezTo>
                  <a:pt x="18587" y="17305"/>
                  <a:pt x="18571" y="17347"/>
                  <a:pt x="18554" y="17388"/>
                </a:cubicBezTo>
                <a:cubicBezTo>
                  <a:pt x="18700" y="17451"/>
                  <a:pt x="18776" y="17344"/>
                  <a:pt x="18852" y="17214"/>
                </a:cubicBezTo>
                <a:cubicBezTo>
                  <a:pt x="18852" y="17206"/>
                  <a:pt x="18852" y="17198"/>
                  <a:pt x="18852" y="17190"/>
                </a:cubicBezTo>
                <a:cubicBezTo>
                  <a:pt x="18865" y="17280"/>
                  <a:pt x="18918" y="17410"/>
                  <a:pt x="19050" y="17338"/>
                </a:cubicBezTo>
                <a:cubicBezTo>
                  <a:pt x="19083" y="17305"/>
                  <a:pt x="19116" y="17272"/>
                  <a:pt x="19149" y="17239"/>
                </a:cubicBezTo>
              </a:path>
              <a:path w="3721" h="820">
                <a:moveTo>
                  <a:pt x="19298" y="17066"/>
                </a:moveTo>
                <a:cubicBezTo>
                  <a:pt x="19306" y="17066"/>
                  <a:pt x="19315" y="17066"/>
                  <a:pt x="19323" y="17066"/>
                </a:cubicBezTo>
                <a:cubicBezTo>
                  <a:pt x="19284" y="16989"/>
                  <a:pt x="19198" y="16998"/>
                  <a:pt x="19149" y="17090"/>
                </a:cubicBezTo>
                <a:cubicBezTo>
                  <a:pt x="19108" y="17214"/>
                  <a:pt x="19084" y="17239"/>
                  <a:pt x="19124" y="17314"/>
                </a:cubicBezTo>
                <a:cubicBezTo>
                  <a:pt x="19346" y="17313"/>
                  <a:pt x="19370" y="17263"/>
                  <a:pt x="19546" y="17115"/>
                </a:cubicBezTo>
              </a:path>
              <a:path w="3721" h="820">
                <a:moveTo>
                  <a:pt x="19496" y="16718"/>
                </a:moveTo>
                <a:cubicBezTo>
                  <a:pt x="19527" y="16923"/>
                  <a:pt x="19541" y="17131"/>
                  <a:pt x="19571" y="17338"/>
                </a:cubicBezTo>
                <a:cubicBezTo>
                  <a:pt x="19578" y="17388"/>
                  <a:pt x="19605" y="17312"/>
                  <a:pt x="19621" y="17264"/>
                </a:cubicBezTo>
              </a:path>
              <a:path w="3721" h="820">
                <a:moveTo>
                  <a:pt x="19273" y="17041"/>
                </a:moveTo>
                <a:cubicBezTo>
                  <a:pt x="19483" y="17041"/>
                  <a:pt x="19642" y="16983"/>
                  <a:pt x="19844" y="16942"/>
                </a:cubicBezTo>
                <a:cubicBezTo>
                  <a:pt x="19860" y="16942"/>
                  <a:pt x="19877" y="16942"/>
                  <a:pt x="19893" y="1694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  Students will compare integers and absolute values on a number line and find distance between points.</a:t>
            </a:r>
            <a:endParaRPr b="0" lang="en-US" sz="2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bank account started with $75.  After paying bills, your account will be short $32.  What is the total of your bills?</a:t>
            </a:r>
            <a:endParaRPr b="0" lang="en-US" sz="3200" spc="-1" strike="noStrike">
              <a:solidFill>
                <a:srgbClr val="000000"/>
              </a:solidFill>
              <a:latin typeface="Arial"/>
            </a:endParaRPr>
          </a:p>
        </p:txBody>
      </p:sp>
      <p:sp>
        <p:nvSpPr>
          <p:cNvPr id="146" name=""/>
          <p:cNvSpPr/>
          <p:nvPr/>
        </p:nvSpPr>
        <p:spPr>
          <a:xfrm>
            <a:off x="2330280" y="3821040"/>
            <a:ext cx="339840" cy="260280"/>
          </a:xfrm>
          <a:custGeom>
            <a:avLst/>
            <a:gdLst/>
            <a:ahLst/>
            <a:rect l="l" t="t" r="r" b="b"/>
            <a:pathLst>
              <a:path w="944" h="721">
                <a:moveTo>
                  <a:pt x="6474" y="10815"/>
                </a:moveTo>
                <a:cubicBezTo>
                  <a:pt x="6559" y="10815"/>
                  <a:pt x="6634" y="10721"/>
                  <a:pt x="6722" y="10765"/>
                </a:cubicBezTo>
                <a:cubicBezTo>
                  <a:pt x="6815" y="10812"/>
                  <a:pt x="6588" y="10999"/>
                  <a:pt x="6573" y="11013"/>
                </a:cubicBezTo>
                <a:cubicBezTo>
                  <a:pt x="6573" y="11021"/>
                  <a:pt x="6573" y="11030"/>
                  <a:pt x="6573" y="11038"/>
                </a:cubicBezTo>
                <a:cubicBezTo>
                  <a:pt x="6678" y="11023"/>
                  <a:pt x="6868" y="10978"/>
                  <a:pt x="6821" y="11162"/>
                </a:cubicBezTo>
                <a:cubicBezTo>
                  <a:pt x="6780" y="11324"/>
                  <a:pt x="6671" y="11321"/>
                  <a:pt x="6548" y="11311"/>
                </a:cubicBezTo>
              </a:path>
              <a:path w="944" h="721">
                <a:moveTo>
                  <a:pt x="6995" y="10666"/>
                </a:moveTo>
                <a:cubicBezTo>
                  <a:pt x="7041" y="10620"/>
                  <a:pt x="7053" y="10601"/>
                  <a:pt x="7094" y="10641"/>
                </a:cubicBezTo>
                <a:cubicBezTo>
                  <a:pt x="7120" y="10838"/>
                  <a:pt x="7069" y="10934"/>
                  <a:pt x="6945" y="11088"/>
                </a:cubicBezTo>
                <a:cubicBezTo>
                  <a:pt x="7113" y="11062"/>
                  <a:pt x="7262" y="11007"/>
                  <a:pt x="7417" y="1093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320920" y="4724280"/>
            <a:ext cx="536760" cy="241560"/>
          </a:xfrm>
          <a:custGeom>
            <a:avLst/>
            <a:gdLst/>
            <a:ahLst/>
            <a:rect l="l" t="t" r="r" b="b"/>
            <a:pathLst>
              <a:path w="1490" h="670">
                <a:moveTo>
                  <a:pt x="6449" y="13568"/>
                </a:moveTo>
                <a:cubicBezTo>
                  <a:pt x="6597" y="13503"/>
                  <a:pt x="6749" y="13459"/>
                  <a:pt x="6896" y="13395"/>
                </a:cubicBezTo>
              </a:path>
              <a:path w="1490" h="670">
                <a:moveTo>
                  <a:pt x="7020" y="13196"/>
                </a:moveTo>
                <a:cubicBezTo>
                  <a:pt x="7167" y="13165"/>
                  <a:pt x="7365" y="13081"/>
                  <a:pt x="7243" y="13320"/>
                </a:cubicBezTo>
                <a:cubicBezTo>
                  <a:pt x="7218" y="13353"/>
                  <a:pt x="7194" y="13386"/>
                  <a:pt x="7169" y="13419"/>
                </a:cubicBezTo>
                <a:cubicBezTo>
                  <a:pt x="7161" y="13427"/>
                  <a:pt x="7152" y="13436"/>
                  <a:pt x="7144" y="13444"/>
                </a:cubicBezTo>
                <a:cubicBezTo>
                  <a:pt x="7246" y="13423"/>
                  <a:pt x="7377" y="13395"/>
                  <a:pt x="7417" y="13543"/>
                </a:cubicBezTo>
                <a:cubicBezTo>
                  <a:pt x="7457" y="13692"/>
                  <a:pt x="7131" y="13853"/>
                  <a:pt x="7020" y="13791"/>
                </a:cubicBezTo>
                <a:cubicBezTo>
                  <a:pt x="7012" y="13766"/>
                  <a:pt x="7003" y="13742"/>
                  <a:pt x="6995" y="13717"/>
                </a:cubicBezTo>
              </a:path>
              <a:path w="1490" h="670">
                <a:moveTo>
                  <a:pt x="7516" y="13171"/>
                </a:moveTo>
                <a:cubicBezTo>
                  <a:pt x="7622" y="13111"/>
                  <a:pt x="7766" y="13097"/>
                  <a:pt x="7739" y="13271"/>
                </a:cubicBezTo>
                <a:cubicBezTo>
                  <a:pt x="7719" y="13397"/>
                  <a:pt x="7607" y="13490"/>
                  <a:pt x="7565" y="13593"/>
                </a:cubicBezTo>
                <a:cubicBezTo>
                  <a:pt x="7690" y="13577"/>
                  <a:pt x="7814" y="13547"/>
                  <a:pt x="7938" y="1351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187280" y="3751200"/>
            <a:ext cx="6796080" cy="1062000"/>
          </a:xfrm>
          <a:custGeom>
            <a:avLst/>
            <a:gdLst/>
            <a:ahLst/>
            <a:rect l="l" t="t" r="r" b="b"/>
            <a:pathLst>
              <a:path w="18877" h="2953">
                <a:moveTo>
                  <a:pt x="3299" y="13072"/>
                </a:moveTo>
                <a:cubicBezTo>
                  <a:pt x="3438" y="13034"/>
                  <a:pt x="3579" y="12981"/>
                  <a:pt x="3721" y="12948"/>
                </a:cubicBezTo>
                <a:cubicBezTo>
                  <a:pt x="4172" y="12841"/>
                  <a:pt x="4627" y="12771"/>
                  <a:pt x="5085" y="12700"/>
                </a:cubicBezTo>
                <a:cubicBezTo>
                  <a:pt x="5556" y="12627"/>
                  <a:pt x="6026" y="12562"/>
                  <a:pt x="6499" y="12502"/>
                </a:cubicBezTo>
                <a:cubicBezTo>
                  <a:pt x="7682" y="12352"/>
                  <a:pt x="8863" y="12197"/>
                  <a:pt x="10046" y="12055"/>
                </a:cubicBezTo>
                <a:cubicBezTo>
                  <a:pt x="11022" y="11938"/>
                  <a:pt x="11992" y="11879"/>
                  <a:pt x="12973" y="11832"/>
                </a:cubicBezTo>
                <a:cubicBezTo>
                  <a:pt x="13543" y="11805"/>
                  <a:pt x="14113" y="11802"/>
                  <a:pt x="14684" y="11782"/>
                </a:cubicBezTo>
                <a:cubicBezTo>
                  <a:pt x="15412" y="11756"/>
                  <a:pt x="16139" y="11723"/>
                  <a:pt x="16867" y="11708"/>
                </a:cubicBezTo>
                <a:cubicBezTo>
                  <a:pt x="17570" y="11694"/>
                  <a:pt x="18274" y="11670"/>
                  <a:pt x="18976" y="11633"/>
                </a:cubicBezTo>
                <a:cubicBezTo>
                  <a:pt x="19826" y="11588"/>
                  <a:pt x="20658" y="11598"/>
                  <a:pt x="21506" y="11633"/>
                </a:cubicBezTo>
                <a:cubicBezTo>
                  <a:pt x="21539" y="11634"/>
                  <a:pt x="21572" y="11632"/>
                  <a:pt x="21605" y="11633"/>
                </a:cubicBezTo>
                <a:cubicBezTo>
                  <a:pt x="21460" y="11497"/>
                  <a:pt x="21191" y="11239"/>
                  <a:pt x="21109" y="11162"/>
                </a:cubicBezTo>
                <a:cubicBezTo>
                  <a:pt x="21299" y="11301"/>
                  <a:pt x="21488" y="11434"/>
                  <a:pt x="21679" y="11559"/>
                </a:cubicBezTo>
                <a:cubicBezTo>
                  <a:pt x="21517" y="11686"/>
                  <a:pt x="21427" y="11761"/>
                  <a:pt x="21282" y="11906"/>
                </a:cubicBezTo>
              </a:path>
              <a:path w="18877" h="2953">
                <a:moveTo>
                  <a:pt x="3497" y="12675"/>
                </a:moveTo>
                <a:cubicBezTo>
                  <a:pt x="3461" y="12813"/>
                  <a:pt x="3397" y="12903"/>
                  <a:pt x="3349" y="13022"/>
                </a:cubicBezTo>
                <a:cubicBezTo>
                  <a:pt x="3536" y="13060"/>
                  <a:pt x="3715" y="13129"/>
                  <a:pt x="3894" y="13196"/>
                </a:cubicBezTo>
              </a:path>
              <a:path w="18877" h="2953">
                <a:moveTo>
                  <a:pt x="20290" y="12402"/>
                </a:moveTo>
                <a:cubicBezTo>
                  <a:pt x="20422" y="12326"/>
                  <a:pt x="20508" y="12294"/>
                  <a:pt x="20662" y="12278"/>
                </a:cubicBezTo>
              </a:path>
              <a:path w="18877" h="2953">
                <a:moveTo>
                  <a:pt x="11658" y="11633"/>
                </a:moveTo>
                <a:cubicBezTo>
                  <a:pt x="11565" y="11704"/>
                  <a:pt x="11602" y="12010"/>
                  <a:pt x="11609" y="12179"/>
                </a:cubicBezTo>
                <a:cubicBezTo>
                  <a:pt x="11609" y="12204"/>
                  <a:pt x="11609" y="12229"/>
                  <a:pt x="11609" y="12254"/>
                </a:cubicBezTo>
              </a:path>
              <a:path w="18877" h="2953">
                <a:moveTo>
                  <a:pt x="11708" y="12898"/>
                </a:moveTo>
                <a:cubicBezTo>
                  <a:pt x="11571" y="12944"/>
                  <a:pt x="11496" y="13118"/>
                  <a:pt x="11485" y="13271"/>
                </a:cubicBezTo>
                <a:cubicBezTo>
                  <a:pt x="11493" y="13304"/>
                  <a:pt x="11501" y="13337"/>
                  <a:pt x="11509" y="13370"/>
                </a:cubicBezTo>
                <a:cubicBezTo>
                  <a:pt x="11741" y="13337"/>
                  <a:pt x="11924" y="13259"/>
                  <a:pt x="11757" y="12998"/>
                </a:cubicBezTo>
                <a:cubicBezTo>
                  <a:pt x="11724" y="12965"/>
                  <a:pt x="11691" y="12931"/>
                  <a:pt x="11658" y="12898"/>
                </a:cubicBezTo>
              </a:path>
              <a:path w="18877" h="2953">
                <a:moveTo>
                  <a:pt x="7193" y="12278"/>
                </a:moveTo>
                <a:cubicBezTo>
                  <a:pt x="7180" y="12440"/>
                  <a:pt x="7195" y="12565"/>
                  <a:pt x="7218" y="12725"/>
                </a:cubicBezTo>
              </a:path>
              <a:path w="18877" h="2953">
                <a:moveTo>
                  <a:pt x="11708" y="10418"/>
                </a:moveTo>
                <a:cubicBezTo>
                  <a:pt x="11712" y="10436"/>
                  <a:pt x="11824" y="10753"/>
                  <a:pt x="11733" y="10765"/>
                </a:cubicBezTo>
                <a:cubicBezTo>
                  <a:pt x="11725" y="10749"/>
                  <a:pt x="11716" y="10732"/>
                  <a:pt x="11708" y="10716"/>
                </a:cubicBezTo>
              </a:path>
              <a:path w="18877" h="2953">
                <a:moveTo>
                  <a:pt x="21903" y="10567"/>
                </a:moveTo>
                <a:cubicBezTo>
                  <a:pt x="22038" y="10540"/>
                  <a:pt x="22330" y="10438"/>
                  <a:pt x="22027" y="1061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6885000" y="3660840"/>
            <a:ext cx="374760" cy="189000"/>
          </a:xfrm>
          <a:custGeom>
            <a:avLst/>
            <a:gdLst/>
            <a:ahLst/>
            <a:rect l="l" t="t" r="r" b="b"/>
            <a:pathLst>
              <a:path w="1043" h="522">
                <a:moveTo>
                  <a:pt x="19124" y="10368"/>
                </a:moveTo>
                <a:cubicBezTo>
                  <a:pt x="19232" y="10368"/>
                  <a:pt x="19339" y="10368"/>
                  <a:pt x="19447" y="10368"/>
                </a:cubicBezTo>
                <a:cubicBezTo>
                  <a:pt x="19422" y="10458"/>
                  <a:pt x="19366" y="10666"/>
                  <a:pt x="19348" y="10666"/>
                </a:cubicBezTo>
              </a:path>
              <a:path w="1043" h="522">
                <a:moveTo>
                  <a:pt x="19596" y="10319"/>
                </a:moveTo>
                <a:cubicBezTo>
                  <a:pt x="19596" y="10418"/>
                  <a:pt x="19748" y="10423"/>
                  <a:pt x="19819" y="10492"/>
                </a:cubicBezTo>
                <a:cubicBezTo>
                  <a:pt x="19995" y="10661"/>
                  <a:pt x="19699" y="10641"/>
                  <a:pt x="19621" y="10616"/>
                </a:cubicBezTo>
              </a:path>
              <a:path w="1043" h="522">
                <a:moveTo>
                  <a:pt x="19596" y="10319"/>
                </a:moveTo>
                <a:cubicBezTo>
                  <a:pt x="19789" y="10254"/>
                  <a:pt x="19967" y="10206"/>
                  <a:pt x="20166" y="1017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259760" y="4089240"/>
            <a:ext cx="9360" cy="162000"/>
          </a:xfrm>
          <a:custGeom>
            <a:avLst/>
            <a:gdLst/>
            <a:ahLst/>
            <a:rect l="l" t="t" r="r" b="b"/>
            <a:pathLst>
              <a:path w="26" h="447">
                <a:moveTo>
                  <a:pt x="20166" y="11361"/>
                </a:moveTo>
                <a:cubicBezTo>
                  <a:pt x="20184" y="11506"/>
                  <a:pt x="20185" y="11613"/>
                  <a:pt x="20166" y="11757"/>
                </a:cubicBezTo>
                <a:cubicBezTo>
                  <a:pt x="20166" y="11782"/>
                  <a:pt x="20166" y="11790"/>
                  <a:pt x="20166" y="1180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7054920" y="4464000"/>
            <a:ext cx="357120" cy="162000"/>
          </a:xfrm>
          <a:custGeom>
            <a:avLst/>
            <a:gdLst/>
            <a:ahLst/>
            <a:rect l="l" t="t" r="r" b="b"/>
            <a:pathLst>
              <a:path w="993" h="448">
                <a:moveTo>
                  <a:pt x="19596" y="12452"/>
                </a:moveTo>
                <a:cubicBezTo>
                  <a:pt x="19755" y="12414"/>
                  <a:pt x="19903" y="12402"/>
                  <a:pt x="20067" y="12402"/>
                </a:cubicBezTo>
                <a:cubicBezTo>
                  <a:pt x="20058" y="12525"/>
                  <a:pt x="19974" y="12685"/>
                  <a:pt x="19993" y="12799"/>
                </a:cubicBezTo>
                <a:cubicBezTo>
                  <a:pt x="20033" y="12841"/>
                  <a:pt x="20058" y="12833"/>
                  <a:pt x="20092" y="12750"/>
                </a:cubicBezTo>
              </a:path>
              <a:path w="993" h="448">
                <a:moveTo>
                  <a:pt x="20265" y="12402"/>
                </a:moveTo>
                <a:cubicBezTo>
                  <a:pt x="20223" y="12546"/>
                  <a:pt x="20304" y="12552"/>
                  <a:pt x="20439" y="12626"/>
                </a:cubicBezTo>
                <a:cubicBezTo>
                  <a:pt x="20491" y="12655"/>
                  <a:pt x="20685" y="12756"/>
                  <a:pt x="20538" y="12824"/>
                </a:cubicBezTo>
                <a:cubicBezTo>
                  <a:pt x="20429" y="12852"/>
                  <a:pt x="20386" y="12856"/>
                  <a:pt x="20315" y="1279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70240" y="3714840"/>
            <a:ext cx="4054680" cy="187200"/>
          </a:xfrm>
          <a:custGeom>
            <a:avLst/>
            <a:gdLst/>
            <a:ahLst/>
            <a:rect l="l" t="t" r="r" b="b"/>
            <a:pathLst>
              <a:path w="11262" h="522">
                <a:moveTo>
                  <a:pt x="11584" y="10666"/>
                </a:moveTo>
                <a:cubicBezTo>
                  <a:pt x="11736" y="10621"/>
                  <a:pt x="11882" y="10574"/>
                  <a:pt x="12030" y="10517"/>
                </a:cubicBezTo>
              </a:path>
              <a:path w="11262" h="522">
                <a:moveTo>
                  <a:pt x="12030" y="10517"/>
                </a:moveTo>
                <a:lnTo>
                  <a:pt x="12030" y="10517"/>
                </a:lnTo>
              </a:path>
              <a:path w="11262" h="522">
                <a:moveTo>
                  <a:pt x="21903" y="10765"/>
                </a:moveTo>
                <a:cubicBezTo>
                  <a:pt x="22061" y="10738"/>
                  <a:pt x="22120" y="10727"/>
                  <a:pt x="22225" y="10691"/>
                </a:cubicBezTo>
              </a:path>
              <a:path w="11262" h="522">
                <a:moveTo>
                  <a:pt x="22225" y="10691"/>
                </a:moveTo>
                <a:lnTo>
                  <a:pt x="22225" y="10691"/>
                </a:lnTo>
              </a:path>
              <a:path w="11262" h="522">
                <a:moveTo>
                  <a:pt x="22721" y="10319"/>
                </a:moveTo>
                <a:cubicBezTo>
                  <a:pt x="22757" y="10477"/>
                  <a:pt x="22779" y="10662"/>
                  <a:pt x="22820" y="10815"/>
                </a:cubicBezTo>
                <a:cubicBezTo>
                  <a:pt x="22828" y="10823"/>
                  <a:pt x="22837" y="10832"/>
                  <a:pt x="22845" y="1084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8286840" y="3714840"/>
            <a:ext cx="322200" cy="179280"/>
          </a:xfrm>
          <a:custGeom>
            <a:avLst/>
            <a:gdLst/>
            <a:ahLst/>
            <a:rect l="l" t="t" r="r" b="b"/>
            <a:pathLst>
              <a:path w="894" h="497">
                <a:moveTo>
                  <a:pt x="23192" y="10319"/>
                </a:moveTo>
                <a:cubicBezTo>
                  <a:pt x="23123" y="10409"/>
                  <a:pt x="22929" y="10636"/>
                  <a:pt x="23044" y="10765"/>
                </a:cubicBezTo>
                <a:cubicBezTo>
                  <a:pt x="23180" y="10917"/>
                  <a:pt x="23478" y="10728"/>
                  <a:pt x="23391" y="10542"/>
                </a:cubicBezTo>
                <a:cubicBezTo>
                  <a:pt x="23346" y="10445"/>
                  <a:pt x="23220" y="10408"/>
                  <a:pt x="23168" y="10344"/>
                </a:cubicBezTo>
              </a:path>
              <a:path w="894" h="497">
                <a:moveTo>
                  <a:pt x="23440" y="10319"/>
                </a:moveTo>
                <a:cubicBezTo>
                  <a:pt x="23603" y="10333"/>
                  <a:pt x="23748" y="10328"/>
                  <a:pt x="23912" y="10319"/>
                </a:cubicBezTo>
                <a:cubicBezTo>
                  <a:pt x="23888" y="10477"/>
                  <a:pt x="23862" y="10630"/>
                  <a:pt x="23862" y="1079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9T04:17:09Z</dcterms:created>
  <dc:creator>demcgra</dc:creator>
  <dc:description/>
  <dc:language>en-US</dc:language>
  <cp:lastModifiedBy>demcgra</cp:lastModifiedBy>
  <dcterms:modified xsi:type="dcterms:W3CDTF">2012-04-11T19:28:31Z</dcterms:modified>
  <cp:revision>6</cp:revision>
  <dc:subject/>
  <dc:title>Warm - up</dc:title>
</cp:coreProperties>
</file>